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09480" y="376992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92160" y="11430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92160" y="3769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7480" y="11430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865120" y="11430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09480" y="37699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7480" y="37699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865120" y="37699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D76730-6C04-450F-B8E6-A16BA292D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0948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95F34C-69B8-4EE8-9FE6-8B3A6513F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F0D8E8-4B0A-42AA-9BD8-7DF5328C8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92160" y="114300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A446A8-0B78-4F73-B4E5-CF61D7974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7B1182-2A97-493D-976C-7B9856C9B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151920"/>
            <a:ext cx="779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C94F00-4B09-4729-8702-BB73C5782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92160" y="114300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0DFC25-01A8-4BB1-B111-20D3221A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0948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1430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92160" y="3769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2FDAE9-EAD0-4929-8680-CF3F6B93A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92160" y="11430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1EB6F9-1C43-48B6-9CBA-A5B80A4B4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09480" y="376992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C99742-876D-459F-AB1A-C73E2B31E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92160" y="11430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92160" y="3769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0205FA-9E37-4718-85C3-EBEDA5212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7480" y="11430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865120" y="11430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09480" y="37699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7480" y="37699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865120" y="37699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5890EB-1C07-4274-8D37-91E93BA5E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92160" y="114300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151920"/>
            <a:ext cx="779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114300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92160" y="11430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92160" y="3769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2160" y="11430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a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260280"/>
            <a:ext cx="438120" cy="4748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260280"/>
            <a:ext cx="328320" cy="474840"/>
          </a:xfrm>
          <a:prstGeom prst="rect">
            <a:avLst/>
          </a:prstGeom>
          <a:gradFill rotWithShape="0">
            <a:gsLst>
              <a:gs pos="0">
                <a:srgbClr val="f7ead5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682560"/>
            <a:ext cx="422280" cy="4748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27000" y="682560"/>
            <a:ext cx="368280" cy="474840"/>
          </a:xfrm>
          <a:prstGeom prst="rect">
            <a:avLst/>
          </a:prstGeom>
          <a:gradFill rotWithShape="0">
            <a:gsLst>
              <a:gs pos="0">
                <a:srgbClr val="f7ead5"/>
              </a:gs>
              <a:gs pos="100000">
                <a:srgbClr val="0099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609480"/>
            <a:ext cx="560160" cy="42228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7ead5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152280"/>
            <a:ext cx="31680" cy="105264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942840"/>
            <a:ext cx="8226360" cy="32040"/>
          </a:xfrm>
          <a:prstGeom prst="rect">
            <a:avLst/>
          </a:prstGeom>
          <a:gradFill rotWithShape="0">
            <a:gsLst>
              <a:gs pos="0">
                <a:srgbClr val="f7ead5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Tahoma"/>
              </a:rPr>
              <a:t>Click to edit the title text format</a:t>
            </a: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0948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8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9900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75960" y="6324480"/>
            <a:ext cx="4724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800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800080"/>
                </a:solidFill>
                <a:latin typeface="Times New Roman"/>
              </a:rPr>
              <a:t>ECFA/BENE meeting – Hamburg - 3</a:t>
            </a:r>
            <a:r>
              <a:rPr b="1" lang="fr-FR" sz="1400" spc="-1" strike="noStrike" baseline="30000">
                <a:solidFill>
                  <a:srgbClr val="800080"/>
                </a:solidFill>
                <a:latin typeface="Times New Roman"/>
              </a:rPr>
              <a:t>rd</a:t>
            </a:r>
            <a:r>
              <a:rPr b="1" lang="fr-FR" sz="1400" spc="-1" strike="noStrike">
                <a:solidFill>
                  <a:srgbClr val="800080"/>
                </a:solidFill>
                <a:latin typeface="Times New Roman"/>
              </a:rPr>
              <a:t> november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638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80008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80"/>
                </a:solidFill>
                <a:latin typeface="Monotype Corsiva"/>
              </a:rPr>
              <a:t>Antoine Caz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lal-coul-75" descr=""/>
          <p:cNvPicPr/>
          <p:nvPr/>
        </p:nvPicPr>
        <p:blipFill>
          <a:blip r:embed="rId2"/>
          <a:stretch/>
        </p:blipFill>
        <p:spPr>
          <a:xfrm>
            <a:off x="8534520" y="6454800"/>
            <a:ext cx="609480" cy="403200"/>
          </a:xfrm>
          <a:prstGeom prst="rect">
            <a:avLst/>
          </a:prstGeom>
          <a:ln w="0">
            <a:noFill/>
          </a:ln>
        </p:spPr>
      </p:pic>
      <p:sp>
        <p:nvSpPr>
          <p:cNvPr id="12" name=""/>
          <p:cNvSpPr/>
          <p:nvPr/>
        </p:nvSpPr>
        <p:spPr>
          <a:xfrm>
            <a:off x="917640" y="6400800"/>
            <a:ext cx="8226360" cy="3168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7ead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a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7ead5"/>
                  </a:gs>
                  <a:gs pos="100000">
                    <a:srgbClr val="0099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7ead5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f7ead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7ead5"/>
                </a:gs>
                <a:gs pos="100000">
                  <a:srgbClr val="66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52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Tahoma"/>
              </a:rPr>
              <a:t>Click to edit the title text format</a:t>
            </a: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660066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60066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66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60066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660066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7B4EA-D9C8-46C1-A7D9-F70BD89994B0}" type="slidenum">
              <a:rPr b="0" lang="fr-FR" sz="1400" spc="-1" strike="noStrike">
                <a:solidFill>
                  <a:srgbClr val="660066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808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9900cc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a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52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800080"/>
                </a:solidFill>
                <a:latin typeface="Tahoma"/>
              </a:rPr>
              <a:t>SPL-Fréjus optimisation. </a:t>
            </a:r>
            <a:endParaRPr b="1" i="1" lang="en-US" sz="40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696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Monotype Corsiva"/>
              </a:rPr>
              <a:t>Antoine Caz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00080"/>
                </a:solidFill>
                <a:latin typeface="Tahoma"/>
              </a:rPr>
              <a:t>Laboratoire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009999"/>
                </a:solidFill>
                <a:latin typeface="Tahoma"/>
              </a:rPr>
              <a:t>de L’accélérateur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800080"/>
                </a:solidFill>
                <a:latin typeface="Tahoma"/>
              </a:rPr>
              <a:t>Linéa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fr-FR" sz="32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november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a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Tahoma"/>
              </a:rPr>
              <a:t> </a:t>
            </a:r>
            <a:r>
              <a:rPr b="1" i="1" lang="en-US" sz="2800" spc="-1" strike="noStrike">
                <a:solidFill>
                  <a:srgbClr val="800080"/>
                </a:solidFill>
                <a:latin typeface="Tahoma"/>
              </a:rPr>
              <a:t>Neutrino Flux 100km away</a:t>
            </a: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480960" y="1363680"/>
            <a:ext cx="7645680" cy="5092200"/>
            <a:chOff x="480960" y="1363680"/>
            <a:chExt cx="7645680" cy="5092200"/>
          </a:xfrm>
        </p:grpSpPr>
        <p:pic>
          <p:nvPicPr>
            <p:cNvPr id="239" name="spectres" descr=""/>
            <p:cNvPicPr/>
            <p:nvPr/>
          </p:nvPicPr>
          <p:blipFill>
            <a:blip r:embed="rId1"/>
            <a:stretch/>
          </p:blipFill>
          <p:spPr>
            <a:xfrm>
              <a:off x="528840" y="1363680"/>
              <a:ext cx="7597800" cy="5003640"/>
            </a:xfrm>
            <a:prstGeom prst="rect">
              <a:avLst/>
            </a:prstGeom>
            <a:ln w="28440">
              <a:solidFill>
                <a:srgbClr val="660066"/>
              </a:solidFill>
              <a:miter/>
            </a:ln>
          </p:spPr>
        </p:pic>
        <p:sp>
          <p:nvSpPr>
            <p:cNvPr id="240" name=""/>
            <p:cNvSpPr/>
            <p:nvPr/>
          </p:nvSpPr>
          <p:spPr>
            <a:xfrm>
              <a:off x="3176280" y="3643560"/>
              <a:ext cx="1122840" cy="37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fr-FR" sz="1600" spc="-1" strike="noStrike" baseline="-25000">
                  <a:solidFill>
                    <a:srgbClr val="000000"/>
                  </a:solidFill>
                  <a:latin typeface="Arial"/>
                </a:rPr>
                <a:t>kine 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(GeV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948360" y="3655800"/>
              <a:ext cx="1122840" cy="37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fr-FR" sz="1600" spc="-1" strike="noStrike" baseline="-25000">
                  <a:solidFill>
                    <a:srgbClr val="000000"/>
                  </a:solidFill>
                  <a:latin typeface="Arial"/>
                </a:rPr>
                <a:t>kine 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(GeV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16200000">
              <a:off x="-315000" y="3795840"/>
              <a:ext cx="205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ahoma"/>
                </a:rPr>
                <a:t>evts/100m</a:t>
              </a:r>
              <a:r>
                <a:rPr b="0" lang="fr-FR" sz="24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fr-FR" sz="2400" spc="-1" strike="noStrike">
                  <a:solidFill>
                    <a:srgbClr val="000000"/>
                  </a:solidFill>
                  <a:latin typeface="Tahoma"/>
                </a:rPr>
                <a:t>/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770280" y="6177960"/>
              <a:ext cx="457200" cy="123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516800" y="6177960"/>
              <a:ext cx="495360" cy="13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265200" y="6085080"/>
              <a:ext cx="1122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fr-FR" sz="1600" spc="-1" strike="noStrike" baseline="-25000">
                  <a:solidFill>
                    <a:srgbClr val="000000"/>
                  </a:solidFill>
                  <a:latin typeface="Arial"/>
                </a:rPr>
                <a:t>kine 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(GeV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986160" y="6060600"/>
              <a:ext cx="1122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fr-FR" sz="1600" spc="-1" strike="noStrike" baseline="-25000">
                  <a:solidFill>
                    <a:srgbClr val="000000"/>
                  </a:solidFill>
                  <a:latin typeface="Arial"/>
                </a:rPr>
                <a:t>kine 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(GeV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7137360" y="1155600"/>
            <a:ext cx="2006640" cy="1219320"/>
            <a:chOff x="7137360" y="1155600"/>
            <a:chExt cx="2006640" cy="1219320"/>
          </a:xfrm>
        </p:grpSpPr>
        <p:sp>
          <p:nvSpPr>
            <p:cNvPr id="248" name=""/>
            <p:cNvSpPr/>
            <p:nvPr/>
          </p:nvSpPr>
          <p:spPr>
            <a:xfrm>
              <a:off x="7137360" y="1155600"/>
              <a:ext cx="1930680" cy="12193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594560" y="1206360"/>
              <a:ext cx="154944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from </a:t>
              </a: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from K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from K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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239240" y="1396800"/>
              <a:ext cx="355320" cy="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239240" y="1752480"/>
              <a:ext cx="355320" cy="0"/>
            </a:xfrm>
            <a:prstGeom prst="line">
              <a:avLst/>
            </a:prstGeom>
            <a:ln w="1908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239240" y="2120760"/>
              <a:ext cx="3553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7156080" y="69840"/>
            <a:ext cx="1879920" cy="1092240"/>
          </a:xfrm>
          <a:prstGeom prst="rect">
            <a:avLst/>
          </a:prstGeom>
          <a:noFill/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0066"/>
                </a:solidFill>
                <a:latin typeface="Tahoma"/>
              </a:rPr>
              <a:t>E</a:t>
            </a:r>
            <a:r>
              <a:rPr b="0" lang="en-GB" sz="2000" spc="-1" strike="noStrike" baseline="-25000">
                <a:solidFill>
                  <a:srgbClr val="660066"/>
                </a:solidFill>
                <a:latin typeface="Tahoma"/>
              </a:rPr>
              <a:t>k</a:t>
            </a:r>
            <a:r>
              <a:rPr b="0" lang="en-GB" sz="2000" spc="-1" strike="noStrike">
                <a:solidFill>
                  <a:srgbClr val="660066"/>
                </a:solidFill>
                <a:latin typeface="Tahoma"/>
              </a:rPr>
              <a:t>=3.5G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0066"/>
                </a:solidFill>
                <a:latin typeface="Tahoma"/>
              </a:rPr>
              <a:t>E</a:t>
            </a:r>
            <a:r>
              <a:rPr b="0" lang="en-GB" sz="2000" spc="-1" strike="noStrike" baseline="-25000">
                <a:solidFill>
                  <a:srgbClr val="660066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>
                <a:solidFill>
                  <a:srgbClr val="660066"/>
                </a:solidFill>
                <a:latin typeface="Tahoma"/>
              </a:rPr>
              <a:t> ~3</a:t>
            </a:r>
            <a:r>
              <a:rPr b="0" lang="fr-FR" sz="2000" spc="-1" strike="noStrike">
                <a:solidFill>
                  <a:srgbClr val="660066"/>
                </a:solidFill>
                <a:latin typeface="Tahoma"/>
              </a:rPr>
              <a:t>0</a:t>
            </a:r>
            <a:r>
              <a:rPr b="0" lang="en-GB" sz="2000" spc="-1" strike="noStrike">
                <a:solidFill>
                  <a:srgbClr val="660066"/>
                </a:solidFill>
                <a:latin typeface="Tahoma"/>
              </a:rPr>
              <a:t>0M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0066"/>
                </a:solidFill>
                <a:latin typeface="Tahoma"/>
              </a:rPr>
              <a:t>L = 40m,R=2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180240" y="1042920"/>
            <a:ext cx="175500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cu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a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800080"/>
                </a:solidFill>
                <a:latin typeface="Tahoma"/>
              </a:rPr>
              <a:t> </a:t>
            </a:r>
            <a:r>
              <a:rPr b="1" i="1" lang="fr-FR" sz="2800" spc="-1" strike="noStrike">
                <a:solidFill>
                  <a:srgbClr val="800080"/>
                </a:solidFill>
                <a:latin typeface="Symbol"/>
                <a:ea typeface="Symbol"/>
              </a:rPr>
              <a:t></a:t>
            </a:r>
            <a:r>
              <a:rPr b="1" i="1" lang="fr-FR" sz="2800" spc="-1" strike="noStrike" baseline="-25000">
                <a:solidFill>
                  <a:srgbClr val="800080"/>
                </a:solidFill>
                <a:latin typeface="Tahoma"/>
              </a:rPr>
              <a:t>13</a:t>
            </a:r>
            <a:r>
              <a:rPr b="1" i="1" lang="fr-FR" sz="2800" spc="-1" strike="noStrike">
                <a:solidFill>
                  <a:srgbClr val="800080"/>
                </a:solidFill>
                <a:latin typeface="Tahoma"/>
              </a:rPr>
              <a:t> and </a:t>
            </a:r>
            <a:r>
              <a:rPr b="1" i="1" lang="fr-FR" sz="2800" spc="-1" strike="noStrike">
                <a:solidFill>
                  <a:srgbClr val="800080"/>
                </a:solidFill>
                <a:latin typeface="Symbol"/>
                <a:ea typeface="Symbol"/>
              </a:rPr>
              <a:t></a:t>
            </a:r>
            <a:r>
              <a:rPr b="1" i="1" lang="fr-FR" sz="2800" spc="-1" strike="noStrike" baseline="-25000">
                <a:solidFill>
                  <a:srgbClr val="800080"/>
                </a:solidFill>
                <a:latin typeface="Tahoma"/>
              </a:rPr>
              <a:t>CP</a:t>
            </a:r>
            <a:r>
              <a:rPr b="1" i="1" lang="fr-FR" sz="2800" spc="-1" strike="noStrike">
                <a:solidFill>
                  <a:srgbClr val="800080"/>
                </a:solidFill>
                <a:latin typeface="Tahoma"/>
              </a:rPr>
              <a:t>  </a:t>
            </a:r>
            <a:r>
              <a:rPr b="1" i="1" lang="en-GB" sz="2800" spc="-1" strike="noStrike">
                <a:solidFill>
                  <a:srgbClr val="800080"/>
                </a:solidFill>
                <a:latin typeface="Tahoma"/>
              </a:rPr>
              <a:t>Sensitivity computation</a:t>
            </a: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auro Mezzetto’s private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ater Cerenko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40 k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Fréjus (130 km from CER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 year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 yea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+ 4 year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year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+ 8 year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d wit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C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0 (standard benchmark)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parameters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2.5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7.1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"/>
          <p:cNvSpPr/>
          <p:nvPr/>
        </p:nvSpPr>
        <p:spPr>
          <a:xfrm>
            <a:off x="3954600" y="3681360"/>
            <a:ext cx="166680" cy="498600"/>
          </a:xfrm>
          <a:custGeom>
            <a:avLst/>
            <a:gdLst>
              <a:gd name="textAreaLeft" fmla="*/ 22320 w 166680"/>
              <a:gd name="textAreaRight" fmla="*/ 144360 w 166680"/>
              <a:gd name="textAreaTop" fmla="*/ 87120 h 498600"/>
              <a:gd name="textAreaBottom" fmla="*/ 361440 h 49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0080"/>
          </a:solidFill>
          <a:ln w="19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144680" y="3522600"/>
            <a:ext cx="129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660066"/>
                </a:solidFill>
                <a:latin typeface="Tahoma"/>
              </a:rPr>
              <a:t>Sa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660066"/>
                </a:solidFill>
                <a:latin typeface="Tahoma"/>
              </a:rPr>
              <a:t>d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713560" y="3633840"/>
            <a:ext cx="272880" cy="1057320"/>
          </a:xfrm>
          <a:custGeom>
            <a:avLst/>
            <a:gdLst>
              <a:gd name="textAreaLeft" fmla="*/ 36360 w 272880"/>
              <a:gd name="textAreaRight" fmla="*/ 236520 w 272880"/>
              <a:gd name="textAreaTop" fmla="*/ 203040 h 1057320"/>
              <a:gd name="textAreaBottom" fmla="*/ 700200 h 1057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03" stAng="-5400000" swAng="5400000"/>
                <a:lnTo>
                  <a:pt x="21600" y="10152"/>
                </a:lnTo>
                <a:arcTo wR="21600" hR="8303" stAng="0" swAng="1480565"/>
                <a:lnTo>
                  <a:pt x="13860" y="19665"/>
                </a:lnTo>
                <a:lnTo>
                  <a:pt x="0" y="17530"/>
                </a:lnTo>
                <a:lnTo>
                  <a:pt x="13860" y="11524"/>
                </a:lnTo>
                <a:lnTo>
                  <a:pt x="13860" y="14670"/>
                </a:lnTo>
                <a:arcTo wR="21600" hR="8303" stAng="1480565" swAng="-1332597"/>
                <a:lnTo>
                  <a:pt x="21466" y="9227"/>
                </a:lnTo>
                <a:arcTo wR="21600" hR="8303" stAng="-147968" swAng="-5252032"/>
                <a:close/>
              </a:path>
              <a:path fill="darkenLess" w="21600" h="21600">
                <a:moveTo>
                  <a:pt x="0" y="0"/>
                </a:moveTo>
                <a:arcTo wR="21600" hR="8303" stAng="-5400000" swAng="5400000"/>
                <a:lnTo>
                  <a:pt x="21600" y="10152"/>
                </a:lnTo>
                <a:arcTo wR="21600" hR="8303" stAng="0" swAng="-147968"/>
                <a:lnTo>
                  <a:pt x="21466" y="9227"/>
                </a:lnTo>
                <a:arcTo wR="21600" hR="8303" stAng="-147968" swAng="-5252032"/>
                <a:close/>
              </a:path>
            </a:pathLst>
          </a:custGeom>
          <a:solidFill>
            <a:srgbClr val="800080"/>
          </a:solidFill>
          <a:ln w="19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21000" y="3838680"/>
            <a:ext cx="209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660066"/>
                </a:solidFill>
                <a:latin typeface="Tahoma"/>
              </a:rPr>
              <a:t>Same stat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562200" y="5376960"/>
            <a:ext cx="457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585240" y="5710320"/>
            <a:ext cx="1946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0.8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a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Tahoma"/>
              </a:rPr>
              <a:t> </a:t>
            </a:r>
            <a:r>
              <a:rPr b="1" i="1" lang="en-US" sz="2800" spc="-1" strike="noStrike">
                <a:solidFill>
                  <a:srgbClr val="800080"/>
                </a:solidFill>
                <a:latin typeface="Tahoma"/>
              </a:rPr>
              <a:t>5 years positive focusing</a:t>
            </a: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-91440" y="5562720"/>
            <a:ext cx="8800200" cy="926280"/>
            <a:chOff x="-91440" y="5562720"/>
            <a:chExt cx="8800200" cy="926280"/>
          </a:xfrm>
        </p:grpSpPr>
        <p:sp>
          <p:nvSpPr>
            <p:cNvPr id="265" name=""/>
            <p:cNvSpPr/>
            <p:nvPr/>
          </p:nvSpPr>
          <p:spPr>
            <a:xfrm>
              <a:off x="-91440" y="5715000"/>
              <a:ext cx="84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Tahoma"/>
                </a:rPr>
                <a:t>B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641920" y="5729400"/>
              <a:ext cx="3066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Tahoma"/>
                </a:rPr>
                <a:t>sin</a:t>
              </a:r>
              <a:r>
                <a:rPr b="1" lang="en-US" sz="2800" spc="-1" strike="noStrike" baseline="30000">
                  <a:solidFill>
                    <a:srgbClr val="660066"/>
                  </a:solidFill>
                  <a:latin typeface="Tahoma"/>
                </a:rPr>
                <a:t>2</a:t>
              </a:r>
              <a:r>
                <a:rPr b="1" lang="en-US" sz="2800" spc="-1" strike="noStrike">
                  <a:solidFill>
                    <a:srgbClr val="660066"/>
                  </a:solidFill>
                  <a:latin typeface="Tahoma"/>
                </a:rPr>
                <a:t>2</a:t>
              </a:r>
              <a:r>
                <a:rPr b="1" lang="en-US" sz="2800" spc="-1" strike="noStrike">
                  <a:solidFill>
                    <a:srgbClr val="660066"/>
                  </a:solidFill>
                  <a:latin typeface="Symbol"/>
                  <a:ea typeface="Symbol"/>
                </a:rPr>
                <a:t></a:t>
              </a:r>
              <a:r>
                <a:rPr b="1" lang="en-US" sz="2800" spc="-1" strike="noStrike" baseline="-25000">
                  <a:solidFill>
                    <a:srgbClr val="660066"/>
                  </a:solidFill>
                  <a:latin typeface="Tahoma"/>
                </a:rPr>
                <a:t>13 </a:t>
              </a:r>
              <a:r>
                <a:rPr b="1" lang="en-US" sz="2800" spc="-1" strike="noStrike">
                  <a:solidFill>
                    <a:srgbClr val="660066"/>
                  </a:solidFill>
                  <a:latin typeface="Tahoma"/>
                </a:rPr>
                <a:t>&gt; 7.1 10</a:t>
              </a:r>
              <a:r>
                <a:rPr b="1" lang="en-US" sz="2800" spc="-1" strike="noStrike" baseline="30000">
                  <a:solidFill>
                    <a:srgbClr val="660066"/>
                  </a:solidFill>
                  <a:latin typeface="Tahoma"/>
                </a:rPr>
                <a:t>-4</a:t>
              </a:r>
              <a:r>
                <a:rPr b="1" lang="en-US" sz="2800" spc="-1" strike="noStrike">
                  <a:solidFill>
                    <a:srgbClr val="660066"/>
                  </a:solidFill>
                  <a:latin typeface="Tahoma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434040" y="5562720"/>
              <a:ext cx="178380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660066"/>
                  </a:solidFill>
                  <a:latin typeface="Tahoma"/>
                </a:rPr>
                <a:t>E</a:t>
              </a:r>
              <a:r>
                <a:rPr b="0" lang="en-GB" sz="2400" spc="-1" strike="noStrike" baseline="-25000">
                  <a:solidFill>
                    <a:srgbClr val="660066"/>
                  </a:solidFill>
                  <a:latin typeface="Tahoma"/>
                </a:rPr>
                <a:t>k</a:t>
              </a:r>
              <a:r>
                <a:rPr b="0" lang="en-GB" sz="2400" spc="-1" strike="noStrike">
                  <a:solidFill>
                    <a:srgbClr val="660066"/>
                  </a:solidFill>
                  <a:latin typeface="Tahoma"/>
                </a:rPr>
                <a:t> = 4.5Ge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660066"/>
                  </a:solidFill>
                  <a:latin typeface="Tahoma"/>
                </a:rPr>
                <a:t>E</a:t>
              </a:r>
              <a:r>
                <a:rPr b="0" lang="en-GB" sz="2400" spc="-1" strike="noStrike" baseline="-25000">
                  <a:solidFill>
                    <a:srgbClr val="660066"/>
                  </a:solidFill>
                  <a:latin typeface="Symbol"/>
                  <a:ea typeface="Symbol"/>
                </a:rPr>
                <a:t></a:t>
              </a:r>
              <a:r>
                <a:rPr b="0" lang="en-GB" sz="2400" spc="-1" strike="noStrike">
                  <a:solidFill>
                    <a:srgbClr val="660066"/>
                  </a:solidFill>
                  <a:latin typeface="Tahoma"/>
                </a:rPr>
                <a:t>=300Me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257800" y="5638680"/>
              <a:ext cx="76320" cy="762120"/>
            </a:xfrm>
            <a:prstGeom prst="rect">
              <a:avLst/>
            </a:prstGeom>
            <a:gradFill rotWithShape="0">
              <a:gsLst>
                <a:gs pos="0">
                  <a:srgbClr val="f7ead5"/>
                </a:gs>
                <a:gs pos="50000">
                  <a:srgbClr val="800080"/>
                </a:gs>
                <a:gs pos="100000">
                  <a:srgbClr val="f7ea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02000" y="5562720"/>
              <a:ext cx="2701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Tahoma"/>
                </a:rPr>
                <a:t>tunnel : 40m lo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Tahoma"/>
                </a:rPr>
                <a:t>2m radi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352680" y="5638680"/>
              <a:ext cx="76320" cy="762120"/>
            </a:xfrm>
            <a:prstGeom prst="rect">
              <a:avLst/>
            </a:prstGeom>
            <a:gradFill rotWithShape="0">
              <a:gsLst>
                <a:gs pos="0">
                  <a:srgbClr val="f7ead5"/>
                </a:gs>
                <a:gs pos="50000">
                  <a:srgbClr val="800080"/>
                </a:gs>
                <a:gs pos="100000">
                  <a:srgbClr val="f7ea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62120" y="5638680"/>
              <a:ext cx="75960" cy="762120"/>
            </a:xfrm>
            <a:prstGeom prst="rect">
              <a:avLst/>
            </a:prstGeom>
            <a:gradFill rotWithShape="0">
              <a:gsLst>
                <a:gs pos="0">
                  <a:srgbClr val="f7ead5"/>
                </a:gs>
                <a:gs pos="50000">
                  <a:srgbClr val="800080"/>
                </a:gs>
                <a:gs pos="100000">
                  <a:srgbClr val="f7ea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889200" y="990720"/>
            <a:ext cx="31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ahoma"/>
              </a:rPr>
              <a:t>Energy compar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4738680" y="990720"/>
            <a:ext cx="4011480" cy="4615560"/>
            <a:chOff x="4738680" y="990720"/>
            <a:chExt cx="4011480" cy="4615560"/>
          </a:xfrm>
        </p:grpSpPr>
        <p:sp>
          <p:nvSpPr>
            <p:cNvPr id="274" name=""/>
            <p:cNvSpPr/>
            <p:nvPr/>
          </p:nvSpPr>
          <p:spPr>
            <a:xfrm>
              <a:off x="5002560" y="990720"/>
              <a:ext cx="340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Tahoma"/>
                </a:rPr>
                <a:t>Focusing compari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5" name="comp5year" descr=""/>
            <p:cNvPicPr/>
            <p:nvPr/>
          </p:nvPicPr>
          <p:blipFill>
            <a:blip r:embed="rId1"/>
            <a:stretch/>
          </p:blipFill>
          <p:spPr>
            <a:xfrm>
              <a:off x="4800600" y="1447920"/>
              <a:ext cx="3849840" cy="4114800"/>
            </a:xfrm>
            <a:prstGeom prst="rect">
              <a:avLst/>
            </a:prstGeom>
            <a:ln w="28440">
              <a:solidFill>
                <a:srgbClr val="660066"/>
              </a:solidFill>
              <a:miter/>
            </a:ln>
          </p:spPr>
        </p:pic>
        <p:sp>
          <p:nvSpPr>
            <p:cNvPr id="276" name=""/>
            <p:cNvSpPr/>
            <p:nvPr/>
          </p:nvSpPr>
          <p:spPr>
            <a:xfrm>
              <a:off x="7551360" y="4648320"/>
              <a:ext cx="1027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800080"/>
                  </a:solidFill>
                  <a:latin typeface="Symbol"/>
                  <a:ea typeface="Symbol"/>
                </a:rPr>
                <a:t></a:t>
              </a:r>
              <a:r>
                <a:rPr b="1" lang="fr-FR" sz="2400" spc="-1" strike="noStrike" baseline="-25000">
                  <a:solidFill>
                    <a:srgbClr val="800080"/>
                  </a:solidFill>
                  <a:latin typeface="Tahoma"/>
                </a:rPr>
                <a:t>CP </a:t>
              </a:r>
              <a:r>
                <a:rPr b="1" lang="fr-FR" sz="2400" spc="-1" strike="noStrike">
                  <a:solidFill>
                    <a:srgbClr val="800080"/>
                  </a:solidFill>
                  <a:latin typeface="Tahoma"/>
                </a:rPr>
                <a:t>=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805720" y="5194440"/>
              <a:ext cx="51732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953480" y="5335560"/>
              <a:ext cx="689040" cy="2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670880" y="5165640"/>
              <a:ext cx="1079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sin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ahoma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797360" y="1490760"/>
              <a:ext cx="389160" cy="338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16200000">
              <a:off x="4260600" y="1975320"/>
              <a:ext cx="1473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ahoma"/>
                </a:rPr>
                <a:t>23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(eV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738680" y="4140360"/>
              <a:ext cx="60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293760" y="1447920"/>
            <a:ext cx="4151160" cy="4147200"/>
            <a:chOff x="293760" y="1447920"/>
            <a:chExt cx="4151160" cy="4147200"/>
          </a:xfrm>
        </p:grpSpPr>
        <p:pic>
          <p:nvPicPr>
            <p:cNvPr id="284" name="compSensi" descr=""/>
            <p:cNvPicPr/>
            <p:nvPr/>
          </p:nvPicPr>
          <p:blipFill>
            <a:blip r:embed="rId2"/>
            <a:stretch/>
          </p:blipFill>
          <p:spPr>
            <a:xfrm>
              <a:off x="406440" y="1447920"/>
              <a:ext cx="3957480" cy="4114800"/>
            </a:xfrm>
            <a:prstGeom prst="rect">
              <a:avLst/>
            </a:prstGeom>
            <a:ln w="28440">
              <a:solidFill>
                <a:srgbClr val="660066"/>
              </a:solidFill>
              <a:miter/>
            </a:ln>
          </p:spPr>
        </p:pic>
        <p:sp>
          <p:nvSpPr>
            <p:cNvPr id="285" name=""/>
            <p:cNvSpPr/>
            <p:nvPr/>
          </p:nvSpPr>
          <p:spPr>
            <a:xfrm>
              <a:off x="791640" y="2895480"/>
              <a:ext cx="1511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~260Me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276000" y="4648320"/>
              <a:ext cx="1027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800080"/>
                  </a:solidFill>
                  <a:latin typeface="Symbol"/>
                  <a:ea typeface="Symbol"/>
                </a:rPr>
                <a:t></a:t>
              </a:r>
              <a:r>
                <a:rPr b="1" lang="fr-FR" sz="2400" spc="-1" strike="noStrike" baseline="-25000">
                  <a:solidFill>
                    <a:srgbClr val="800080"/>
                  </a:solidFill>
                  <a:latin typeface="Tahoma"/>
                </a:rPr>
                <a:t>CP </a:t>
              </a:r>
              <a:r>
                <a:rPr b="1" lang="fr-FR" sz="2400" spc="-1" strike="noStrike">
                  <a:solidFill>
                    <a:srgbClr val="800080"/>
                  </a:solidFill>
                  <a:latin typeface="Tahoma"/>
                </a:rPr>
                <a:t>=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360440" y="5168880"/>
              <a:ext cx="51732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632040" y="5273640"/>
              <a:ext cx="71460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365640" y="5154480"/>
              <a:ext cx="1079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sin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ahoma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01760" y="1455840"/>
              <a:ext cx="352440" cy="345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93760" y="4178160"/>
              <a:ext cx="60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rot="16200000">
              <a:off x="-120600" y="1975320"/>
              <a:ext cx="1473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ahoma"/>
                </a:rPr>
                <a:t>23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(eV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1403280" y="3433680"/>
            <a:ext cx="4737240" cy="787320"/>
            <a:chOff x="1403280" y="3433680"/>
            <a:chExt cx="4737240" cy="787320"/>
          </a:xfrm>
        </p:grpSpPr>
        <p:sp>
          <p:nvSpPr>
            <p:cNvPr id="294" name=""/>
            <p:cNvSpPr/>
            <p:nvPr/>
          </p:nvSpPr>
          <p:spPr>
            <a:xfrm>
              <a:off x="1403280" y="3544920"/>
              <a:ext cx="351000" cy="676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789520" y="3433680"/>
              <a:ext cx="351000" cy="676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1765440" y="3730320"/>
              <a:ext cx="4020840" cy="903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5599080" y="3656160"/>
            <a:ext cx="1800" cy="1503360"/>
          </a:xfrm>
          <a:prstGeom prst="line">
            <a:avLst/>
          </a:prstGeom>
          <a:ln w="19080">
            <a:solidFill>
              <a:srgbClr val="ff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a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260360" y="76320"/>
            <a:ext cx="7718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800080"/>
                </a:solidFill>
                <a:latin typeface="Tahoma"/>
              </a:rPr>
              <a:t> </a:t>
            </a:r>
            <a:r>
              <a:rPr b="1" i="1" lang="en-GB" sz="2800" spc="-1" strike="noStrike">
                <a:solidFill>
                  <a:srgbClr val="800080"/>
                </a:solidFill>
                <a:latin typeface="Tahoma"/>
              </a:rPr>
              <a:t>positive focusing vs 10 years mixed scenario.</a:t>
            </a: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pic>
        <p:nvPicPr>
          <p:cNvPr id="299" name="compDeltaTheta" descr=""/>
          <p:cNvPicPr/>
          <p:nvPr/>
        </p:nvPicPr>
        <p:blipFill>
          <a:blip r:embed="rId1"/>
          <a:stretch/>
        </p:blipFill>
        <p:spPr>
          <a:xfrm>
            <a:off x="457200" y="1401840"/>
            <a:ext cx="3925800" cy="4122720"/>
          </a:xfrm>
          <a:prstGeom prst="rect">
            <a:avLst/>
          </a:prstGeom>
          <a:ln w="28440">
            <a:solidFill>
              <a:srgbClr val="660066"/>
            </a:solidFill>
            <a:miter/>
          </a:ln>
        </p:spPr>
      </p:pic>
      <p:pic>
        <p:nvPicPr>
          <p:cNvPr id="300" name="sensiDeltaTheta" descr=""/>
          <p:cNvPicPr/>
          <p:nvPr/>
        </p:nvPicPr>
        <p:blipFill>
          <a:blip r:embed="rId2"/>
          <a:stretch/>
        </p:blipFill>
        <p:spPr>
          <a:xfrm>
            <a:off x="4983120" y="1413000"/>
            <a:ext cx="3900600" cy="4086000"/>
          </a:xfrm>
          <a:prstGeom prst="rect">
            <a:avLst/>
          </a:prstGeom>
          <a:ln w="28440">
            <a:solidFill>
              <a:srgbClr val="660066"/>
            </a:solidFill>
            <a:miter/>
          </a:ln>
        </p:spPr>
      </p:pic>
      <p:sp>
        <p:nvSpPr>
          <p:cNvPr id="301" name=""/>
          <p:cNvSpPr/>
          <p:nvPr/>
        </p:nvSpPr>
        <p:spPr>
          <a:xfrm>
            <a:off x="1257480" y="6172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47640" y="5130720"/>
            <a:ext cx="1168560" cy="17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303560" y="5140440"/>
            <a:ext cx="5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ahoma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1120" y="5127480"/>
            <a:ext cx="5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ahoma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666880" y="5168880"/>
            <a:ext cx="1168560" cy="17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283360" y="5118120"/>
            <a:ext cx="1168200" cy="17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175520" y="5118120"/>
            <a:ext cx="1168560" cy="17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811840" y="5102280"/>
            <a:ext cx="5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ahoma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176800" y="5114880"/>
            <a:ext cx="5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ahoma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755120" y="5102280"/>
            <a:ext cx="5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ahoma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120080" y="5102280"/>
            <a:ext cx="5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ahoma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233880" y="5153040"/>
            <a:ext cx="5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ahoma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598840" y="5165640"/>
            <a:ext cx="5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ahoma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015200" y="19749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y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285600" y="3905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y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907720" y="1886040"/>
            <a:ext cx="5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y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y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254080" y="3867120"/>
            <a:ext cx="5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y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y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960480" y="977760"/>
            <a:ext cx="31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ahoma"/>
              </a:rPr>
              <a:t>Energy compar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245560" y="965160"/>
            <a:ext cx="34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ahoma"/>
              </a:rPr>
              <a:t>Focusing compar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1711440" y="3524400"/>
            <a:ext cx="1282680" cy="1191240"/>
            <a:chOff x="1711440" y="3524400"/>
            <a:chExt cx="1282680" cy="1191240"/>
          </a:xfrm>
        </p:grpSpPr>
        <p:sp>
          <p:nvSpPr>
            <p:cNvPr id="321" name=""/>
            <p:cNvSpPr/>
            <p:nvPr/>
          </p:nvSpPr>
          <p:spPr>
            <a:xfrm>
              <a:off x="1711440" y="3524400"/>
              <a:ext cx="1282680" cy="11912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.2Ge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3.5Ge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.5Ge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Ge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816200" y="3746520"/>
              <a:ext cx="21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816200" y="3988080"/>
              <a:ext cx="216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816200" y="4267440"/>
              <a:ext cx="216000" cy="0"/>
            </a:xfrm>
            <a:prstGeom prst="line">
              <a:avLst/>
            </a:prstGeom>
            <a:ln w="284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829160" y="4521240"/>
              <a:ext cx="2156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673200" y="1523880"/>
            <a:ext cx="215640" cy="347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1400" y="415116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-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04000" y="3643200"/>
            <a:ext cx="44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-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59160" y="31226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0960" y="26020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01400" y="465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-1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181480" y="1498680"/>
            <a:ext cx="216000" cy="347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909680" y="412596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-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012640" y="3618000"/>
            <a:ext cx="44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-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167800" y="30970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909680" y="46339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-1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4746600" y="1339920"/>
            <a:ext cx="1434960" cy="1554120"/>
            <a:chOff x="4746600" y="1339920"/>
            <a:chExt cx="1434960" cy="1554120"/>
          </a:xfrm>
        </p:grpSpPr>
        <p:sp>
          <p:nvSpPr>
            <p:cNvPr id="338" name=""/>
            <p:cNvSpPr/>
            <p:nvPr/>
          </p:nvSpPr>
          <p:spPr>
            <a:xfrm>
              <a:off x="4746600" y="1339920"/>
              <a:ext cx="1434960" cy="1554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300Me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4.5Ge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300Me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3.5Ge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60Me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3.5Ge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842000" y="1536840"/>
              <a:ext cx="187200" cy="2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842000" y="2004840"/>
              <a:ext cx="199800" cy="1800"/>
            </a:xfrm>
            <a:prstGeom prst="line">
              <a:avLst/>
            </a:prstGeom>
            <a:ln w="284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829040" y="2502000"/>
              <a:ext cx="2001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5400" y="5562720"/>
            <a:ext cx="8902440" cy="926280"/>
            <a:chOff x="5400" y="5562720"/>
            <a:chExt cx="8902440" cy="926280"/>
          </a:xfrm>
        </p:grpSpPr>
        <p:sp>
          <p:nvSpPr>
            <p:cNvPr id="343" name=""/>
            <p:cNvSpPr/>
            <p:nvPr/>
          </p:nvSpPr>
          <p:spPr>
            <a:xfrm>
              <a:off x="5400" y="5715000"/>
              <a:ext cx="84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Tahoma"/>
                </a:rPr>
                <a:t>B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638320" y="5729400"/>
              <a:ext cx="3269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Tahoma"/>
                </a:rPr>
                <a:t>sin</a:t>
              </a:r>
              <a:r>
                <a:rPr b="1" lang="en-US" sz="2800" spc="-1" strike="noStrike" baseline="30000">
                  <a:solidFill>
                    <a:srgbClr val="660066"/>
                  </a:solidFill>
                  <a:latin typeface="Tahoma"/>
                </a:rPr>
                <a:t>2</a:t>
              </a:r>
              <a:r>
                <a:rPr b="1" lang="en-US" sz="2800" spc="-1" strike="noStrike">
                  <a:solidFill>
                    <a:srgbClr val="660066"/>
                  </a:solidFill>
                  <a:latin typeface="Tahoma"/>
                </a:rPr>
                <a:t>2</a:t>
              </a:r>
              <a:r>
                <a:rPr b="1" lang="en-US" sz="2800" spc="-1" strike="noStrike">
                  <a:solidFill>
                    <a:srgbClr val="660066"/>
                  </a:solidFill>
                  <a:latin typeface="Symbol"/>
                  <a:ea typeface="Symbol"/>
                </a:rPr>
                <a:t></a:t>
              </a:r>
              <a:r>
                <a:rPr b="1" lang="en-US" sz="2800" spc="-1" strike="noStrike" baseline="-25000">
                  <a:solidFill>
                    <a:srgbClr val="660066"/>
                  </a:solidFill>
                  <a:latin typeface="Tahoma"/>
                </a:rPr>
                <a:t>13 </a:t>
              </a:r>
              <a:r>
                <a:rPr b="1" lang="en-US" sz="2800" spc="-1" strike="noStrike">
                  <a:solidFill>
                    <a:srgbClr val="660066"/>
                  </a:solidFill>
                  <a:latin typeface="Tahoma"/>
                </a:rPr>
                <a:t>&gt; 2.02 10</a:t>
              </a:r>
              <a:r>
                <a:rPr b="1" lang="en-US" sz="2800" spc="-1" strike="noStrike" baseline="30000">
                  <a:solidFill>
                    <a:srgbClr val="660066"/>
                  </a:solidFill>
                  <a:latin typeface="Tahoma"/>
                </a:rPr>
                <a:t>-3</a:t>
              </a:r>
              <a:r>
                <a:rPr b="1" lang="en-US" sz="2800" spc="-1" strike="noStrike">
                  <a:solidFill>
                    <a:srgbClr val="660066"/>
                  </a:solidFill>
                  <a:latin typeface="Tahoma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3530880" y="5562720"/>
              <a:ext cx="1900080" cy="926280"/>
              <a:chOff x="3530880" y="5562720"/>
              <a:chExt cx="1900080" cy="926280"/>
            </a:xfrm>
          </p:grpSpPr>
          <p:sp>
            <p:nvSpPr>
              <p:cNvPr id="346" name=""/>
              <p:cNvSpPr/>
              <p:nvPr/>
            </p:nvSpPr>
            <p:spPr>
              <a:xfrm>
                <a:off x="3530880" y="5562720"/>
                <a:ext cx="1783800" cy="92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660066"/>
                    </a:solidFill>
                    <a:latin typeface="Tahoma"/>
                  </a:rPr>
                  <a:t>E</a:t>
                </a:r>
                <a:r>
                  <a:rPr b="0" lang="en-GB" sz="2400" spc="-1" strike="noStrike" baseline="-25000">
                    <a:solidFill>
                      <a:srgbClr val="660066"/>
                    </a:solidFill>
                    <a:latin typeface="Tahoma"/>
                  </a:rPr>
                  <a:t>k</a:t>
                </a:r>
                <a:r>
                  <a:rPr b="0" lang="en-GB" sz="2400" spc="-1" strike="noStrike">
                    <a:solidFill>
                      <a:srgbClr val="660066"/>
                    </a:solidFill>
                    <a:latin typeface="Tahoma"/>
                  </a:rPr>
                  <a:t> = 3.5Ge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660066"/>
                    </a:solidFill>
                    <a:latin typeface="Tahoma"/>
                  </a:rPr>
                  <a:t>E</a:t>
                </a:r>
                <a:r>
                  <a:rPr b="0" lang="en-GB" sz="2400" spc="-1" strike="noStrike" baseline="-25000">
                    <a:solidFill>
                      <a:srgbClr val="660066"/>
                    </a:solidFill>
                    <a:latin typeface="Symbol"/>
                    <a:ea typeface="Symbol"/>
                  </a:rPr>
                  <a:t></a:t>
                </a:r>
                <a:r>
                  <a:rPr b="0" lang="en-GB" sz="2400" spc="-1" strike="noStrike">
                    <a:solidFill>
                      <a:srgbClr val="660066"/>
                    </a:solidFill>
                    <a:latin typeface="Tahoma"/>
                  </a:rPr>
                  <a:t>=300Me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354640" y="5638680"/>
                <a:ext cx="76320" cy="762120"/>
              </a:xfrm>
              <a:prstGeom prst="rect">
                <a:avLst/>
              </a:prstGeom>
              <a:gradFill rotWithShape="0">
                <a:gsLst>
                  <a:gs pos="0">
                    <a:srgbClr val="f7ead5"/>
                  </a:gs>
                  <a:gs pos="50000">
                    <a:srgbClr val="800080"/>
                  </a:gs>
                  <a:gs pos="100000">
                    <a:srgbClr val="f7ea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798840" y="5562720"/>
              <a:ext cx="2727000" cy="838080"/>
              <a:chOff x="798840" y="5562720"/>
              <a:chExt cx="2727000" cy="838080"/>
            </a:xfrm>
          </p:grpSpPr>
          <p:sp>
            <p:nvSpPr>
              <p:cNvPr id="349" name=""/>
              <p:cNvSpPr/>
              <p:nvPr/>
            </p:nvSpPr>
            <p:spPr>
              <a:xfrm>
                <a:off x="798840" y="5562720"/>
                <a:ext cx="27014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660066"/>
                    </a:solidFill>
                    <a:latin typeface="Tahoma"/>
                  </a:rPr>
                  <a:t>tunnel : 40m lo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660066"/>
                    </a:solidFill>
                    <a:latin typeface="Tahoma"/>
                  </a:rPr>
                  <a:t>2m radiu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449520" y="5638680"/>
                <a:ext cx="76320" cy="762120"/>
              </a:xfrm>
              <a:prstGeom prst="rect">
                <a:avLst/>
              </a:prstGeom>
              <a:gradFill rotWithShape="0">
                <a:gsLst>
                  <a:gs pos="0">
                    <a:srgbClr val="f7ead5"/>
                  </a:gs>
                  <a:gs pos="50000">
                    <a:srgbClr val="800080"/>
                  </a:gs>
                  <a:gs pos="100000">
                    <a:srgbClr val="f7ea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858960" y="5638680"/>
                <a:ext cx="75960" cy="762120"/>
              </a:xfrm>
              <a:prstGeom prst="rect">
                <a:avLst/>
              </a:prstGeom>
              <a:gradFill rotWithShape="0">
                <a:gsLst>
                  <a:gs pos="0">
                    <a:srgbClr val="f7ead5"/>
                  </a:gs>
                  <a:gs pos="50000">
                    <a:srgbClr val="800080"/>
                  </a:gs>
                  <a:gs pos="100000">
                    <a:srgbClr val="f7ea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2" name=""/>
          <p:cNvSpPr/>
          <p:nvPr/>
        </p:nvSpPr>
        <p:spPr>
          <a:xfrm>
            <a:off x="8229600" y="1403280"/>
            <a:ext cx="0" cy="3683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784760" y="1866960"/>
            <a:ext cx="1265040" cy="5000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8239680" y="6058080"/>
            <a:ext cx="8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90%C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a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campagne300" descr=""/>
          <p:cNvPicPr/>
          <p:nvPr/>
        </p:nvPicPr>
        <p:blipFill>
          <a:blip r:embed="rId1"/>
          <a:stretch/>
        </p:blipFill>
        <p:spPr>
          <a:xfrm>
            <a:off x="2962440" y="747720"/>
            <a:ext cx="6011640" cy="4398840"/>
          </a:xfrm>
          <a:prstGeom prst="rect">
            <a:avLst/>
          </a:prstGeom>
          <a:ln w="38160">
            <a:solidFill>
              <a:srgbClr val="800080"/>
            </a:solidFill>
            <a:miter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37960" y="10116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Tahoma"/>
              </a:rPr>
              <a:t> </a:t>
            </a:r>
            <a:r>
              <a:rPr b="1" i="1" lang="en-US" sz="2800" spc="-1" strike="noStrike">
                <a:solidFill>
                  <a:srgbClr val="800080"/>
                </a:solidFill>
                <a:latin typeface="Tahoma"/>
              </a:rPr>
              <a:t>General comparison.</a:t>
            </a: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71360" y="5292720"/>
            <a:ext cx="897264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or 10 years in mixed focusing, sensitivity around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ahoma"/>
              </a:rPr>
              <a:t>13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~1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lear complementarily between positive scenario and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am (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ahoma"/>
              </a:rPr>
              <a:t>CP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&gt;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"/>
          <p:cNvSpPr/>
          <p:nvPr/>
        </p:nvSpPr>
        <p:spPr>
          <a:xfrm>
            <a:off x="200160" y="3881520"/>
            <a:ext cx="2696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5y mixed focu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10y mixed focu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5y positive focu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2835360" y="3244320"/>
            <a:ext cx="1542960" cy="884520"/>
          </a:xfrm>
          <a:prstGeom prst="line">
            <a:avLst/>
          </a:prstGeom>
          <a:ln w="38160">
            <a:solidFill>
              <a:srgbClr val="d6009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2873520" y="3586320"/>
            <a:ext cx="1604880" cy="860400"/>
          </a:xfrm>
          <a:prstGeom prst="line">
            <a:avLst/>
          </a:prstGeom>
          <a:ln w="38160">
            <a:solidFill>
              <a:srgbClr val="d60093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2860560" y="3987360"/>
            <a:ext cx="1995480" cy="72540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a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800080"/>
                </a:solidFill>
                <a:latin typeface="Tahoma"/>
              </a:rPr>
              <a:t> </a:t>
            </a:r>
            <a:r>
              <a:rPr b="1" i="1" lang="en-GB" sz="2800" spc="-1" strike="noStrike">
                <a:solidFill>
                  <a:srgbClr val="800080"/>
                </a:solidFill>
                <a:latin typeface="Tahoma"/>
              </a:rPr>
              <a:t>Super Beam </a:t>
            </a:r>
            <a:r>
              <a:rPr b="1" i="1" lang="fr-FR" sz="2800" spc="-1" strike="noStrike">
                <a:solidFill>
                  <a:srgbClr val="800080"/>
                </a:solidFill>
                <a:latin typeface="Tahoma"/>
              </a:rPr>
              <a:t>&amp;</a:t>
            </a:r>
            <a:r>
              <a:rPr b="1" i="1" lang="en-GB" sz="2800" spc="-1" strike="noStrike">
                <a:solidFill>
                  <a:srgbClr val="800080"/>
                </a:solidFill>
                <a:latin typeface="Tahoma"/>
              </a:rPr>
              <a:t> beta Beam</a:t>
            </a: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pic>
        <p:nvPicPr>
          <p:cNvPr id="363" name="delta_potentiel" descr=""/>
          <p:cNvPicPr/>
          <p:nvPr/>
        </p:nvPicPr>
        <p:blipFill>
          <a:blip r:embed="rId1"/>
          <a:stretch/>
        </p:blipFill>
        <p:spPr>
          <a:xfrm>
            <a:off x="1755720" y="1098720"/>
            <a:ext cx="5827680" cy="4678200"/>
          </a:xfrm>
          <a:prstGeom prst="rect">
            <a:avLst/>
          </a:prstGeom>
          <a:ln w="38160">
            <a:solidFill>
              <a:srgbClr val="800080"/>
            </a:solidFill>
            <a:miter/>
          </a:ln>
        </p:spPr>
      </p:pic>
      <p:sp>
        <p:nvSpPr>
          <p:cNvPr id="364" name=""/>
          <p:cNvSpPr/>
          <p:nvPr/>
        </p:nvSpPr>
        <p:spPr>
          <a:xfrm>
            <a:off x="2435040" y="5854680"/>
            <a:ext cx="462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ahoma"/>
              </a:rPr>
              <a:t>3</a:t>
            </a:r>
            <a:r>
              <a:rPr b="1" lang="en-US" sz="2400" spc="-1" strike="noStrike">
                <a:solidFill>
                  <a:srgbClr val="660066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660066"/>
                </a:solidFill>
                <a:latin typeface="Tahoma"/>
              </a:rPr>
              <a:t> discovery potential cur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177440" y="1314360"/>
            <a:ext cx="69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Tahoma"/>
              </a:rPr>
              <a:t>S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610040" y="5754600"/>
            <a:ext cx="15645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M. Mezzet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Villars SPSC 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466360" y="3179880"/>
            <a:ext cx="1243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b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3228840" y="2576160"/>
            <a:ext cx="393840" cy="676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303800" y="421164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8000"/>
                </a:solidFill>
                <a:latin typeface="Tahoma"/>
              </a:rPr>
              <a:t>Comb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022640" y="1968480"/>
            <a:ext cx="153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Th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optimis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4452840" y="2624040"/>
            <a:ext cx="225360" cy="3333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a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Tahoma"/>
              </a:rPr>
              <a:t>Conclusion</a:t>
            </a: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88800" y="1305000"/>
            <a:ext cx="8623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Higher proton energy is better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ensitivity to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ahoma"/>
              </a:rPr>
              <a:t>13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6666"/>
                </a:solidFill>
                <a:latin typeface="Tahoma"/>
              </a:rPr>
              <a:t>+25%!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(fixed tunnel, 2.2GeV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3.5GeV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ahoma"/>
              </a:rPr>
              <a:t>13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sensitivity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, in the worse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ahoma"/>
              </a:rPr>
              <a:t>CP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ca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own to </a:t>
            </a:r>
            <a:r>
              <a:rPr b="0" lang="en-GB" sz="2400" spc="-1" strike="noStrike">
                <a:solidFill>
                  <a:srgbClr val="006666"/>
                </a:solidFill>
                <a:latin typeface="Tahoma"/>
              </a:rPr>
              <a:t>1.3°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with the 10y mixed scenar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own to </a:t>
            </a:r>
            <a:r>
              <a:rPr b="0" lang="en-GB" sz="2400" spc="-1" strike="noStrike">
                <a:solidFill>
                  <a:srgbClr val="006666"/>
                </a:solidFill>
                <a:latin typeface="Tahoma"/>
              </a:rPr>
              <a:t>1.6°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with the 5y mixed scenar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= 3.5GeV, E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~300Me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=40m, R=2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an measure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ahoma"/>
              </a:rPr>
              <a:t>CP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a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Tahoma"/>
              </a:rPr>
              <a:t>outline</a:t>
            </a: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44600" y="1318680"/>
            <a:ext cx="449424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518040" indent="-51804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Particle produ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8040" indent="-51804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horn design optimi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42040" indent="-45324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De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42040" indent="-45324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18040" indent="-51804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ecay tunnel parameter optimi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8040" indent="-51804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lux computation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at Fréj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8040" indent="-51804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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C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ensi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18040" indent="-51804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mparison and conclus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4626000" y="65160"/>
            <a:ext cx="43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AL – 04-102, submitted soon to EPJ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4728960" y="992160"/>
            <a:ext cx="2055960" cy="1066320"/>
            <a:chOff x="4728960" y="992160"/>
            <a:chExt cx="2055960" cy="1066320"/>
          </a:xfrm>
        </p:grpSpPr>
        <p:sp>
          <p:nvSpPr>
            <p:cNvPr id="106" name=""/>
            <p:cNvSpPr/>
            <p:nvPr/>
          </p:nvSpPr>
          <p:spPr>
            <a:xfrm>
              <a:off x="4728960" y="9921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803480" y="160164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413320" y="1449000"/>
              <a:ext cx="228600" cy="3808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565600" y="1449000"/>
              <a:ext cx="685800" cy="38088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175080" y="1449000"/>
              <a:ext cx="228600" cy="3808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7ea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480000" y="167760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6480000" y="1296720"/>
              <a:ext cx="22860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480000" y="1906200"/>
              <a:ext cx="2286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4830840" y="2135160"/>
            <a:ext cx="2005920" cy="990720"/>
            <a:chOff x="4830840" y="2135160"/>
            <a:chExt cx="2005920" cy="990720"/>
          </a:xfrm>
        </p:grpSpPr>
        <p:sp>
          <p:nvSpPr>
            <p:cNvPr id="115" name=""/>
            <p:cNvSpPr/>
            <p:nvPr/>
          </p:nvSpPr>
          <p:spPr>
            <a:xfrm>
              <a:off x="4830840" y="259236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830840" y="274500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5440320" y="2287800"/>
              <a:ext cx="99000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440320" y="2745000"/>
              <a:ext cx="99000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4830840" y="221148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4830840" y="27450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830840" y="2211480"/>
              <a:ext cx="159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430680" y="22114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830840" y="3125880"/>
              <a:ext cx="159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430680" y="304956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30840" y="266868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059080" y="2427480"/>
              <a:ext cx="1447560" cy="241200"/>
            </a:xfrm>
            <a:custGeom>
              <a:avLst/>
              <a:gdLst/>
              <a:ahLst/>
              <a:rect l="l" t="t" r="r" b="b"/>
              <a:pathLst>
                <a:path w="912" h="152">
                  <a:moveTo>
                    <a:pt x="0" y="152"/>
                  </a:moveTo>
                  <a:cubicBezTo>
                    <a:pt x="24" y="116"/>
                    <a:pt x="48" y="80"/>
                    <a:pt x="96" y="56"/>
                  </a:cubicBezTo>
                  <a:cubicBezTo>
                    <a:pt x="144" y="32"/>
                    <a:pt x="216" y="16"/>
                    <a:pt x="288" y="8"/>
                  </a:cubicBezTo>
                  <a:cubicBezTo>
                    <a:pt x="360" y="0"/>
                    <a:pt x="424" y="8"/>
                    <a:pt x="528" y="8"/>
                  </a:cubicBezTo>
                  <a:cubicBezTo>
                    <a:pt x="632" y="8"/>
                    <a:pt x="772" y="8"/>
                    <a:pt x="912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432120" y="213516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5121360" y="3303720"/>
            <a:ext cx="2184480" cy="898560"/>
            <a:chOff x="5121360" y="3303720"/>
            <a:chExt cx="2184480" cy="898560"/>
          </a:xfrm>
        </p:grpSpPr>
        <p:sp>
          <p:nvSpPr>
            <p:cNvPr id="129" name=""/>
            <p:cNvSpPr/>
            <p:nvPr/>
          </p:nvSpPr>
          <p:spPr>
            <a:xfrm>
              <a:off x="5991120" y="359244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762520" y="3592440"/>
              <a:ext cx="457200" cy="609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448320" y="3592440"/>
              <a:ext cx="457200" cy="609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991120" y="420228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21360" y="335916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218200" y="391788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913440" y="3303720"/>
              <a:ext cx="39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753240" y="391788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5235480" y="4435200"/>
            <a:ext cx="1295640" cy="533520"/>
            <a:chOff x="5235480" y="4435200"/>
            <a:chExt cx="1295640" cy="533520"/>
          </a:xfrm>
        </p:grpSpPr>
        <p:sp>
          <p:nvSpPr>
            <p:cNvPr id="138" name=""/>
            <p:cNvSpPr/>
            <p:nvPr/>
          </p:nvSpPr>
          <p:spPr>
            <a:xfrm flipV="1">
              <a:off x="5235480" y="4435200"/>
              <a:ext cx="0" cy="53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235480" y="4968720"/>
              <a:ext cx="1295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235480" y="4489920"/>
              <a:ext cx="971280" cy="470880"/>
            </a:xfrm>
            <a:custGeom>
              <a:avLst/>
              <a:gdLst/>
              <a:ahLst/>
              <a:rect l="l" t="t" r="r" b="b"/>
              <a:pathLst>
                <a:path w="720" h="424">
                  <a:moveTo>
                    <a:pt x="0" y="424"/>
                  </a:moveTo>
                  <a:cubicBezTo>
                    <a:pt x="36" y="384"/>
                    <a:pt x="72" y="344"/>
                    <a:pt x="96" y="280"/>
                  </a:cubicBezTo>
                  <a:cubicBezTo>
                    <a:pt x="120" y="216"/>
                    <a:pt x="128" y="80"/>
                    <a:pt x="144" y="40"/>
                  </a:cubicBezTo>
                  <a:cubicBezTo>
                    <a:pt x="160" y="0"/>
                    <a:pt x="176" y="24"/>
                    <a:pt x="192" y="40"/>
                  </a:cubicBezTo>
                  <a:cubicBezTo>
                    <a:pt x="208" y="56"/>
                    <a:pt x="224" y="96"/>
                    <a:pt x="240" y="136"/>
                  </a:cubicBezTo>
                  <a:cubicBezTo>
                    <a:pt x="256" y="176"/>
                    <a:pt x="256" y="240"/>
                    <a:pt x="288" y="280"/>
                  </a:cubicBezTo>
                  <a:cubicBezTo>
                    <a:pt x="320" y="320"/>
                    <a:pt x="360" y="352"/>
                    <a:pt x="432" y="376"/>
                  </a:cubicBezTo>
                  <a:cubicBezTo>
                    <a:pt x="504" y="400"/>
                    <a:pt x="612" y="412"/>
                    <a:pt x="720" y="424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5213520" y="5272200"/>
            <a:ext cx="838080" cy="838080"/>
            <a:chOff x="5213520" y="5272200"/>
            <a:chExt cx="838080" cy="838080"/>
          </a:xfrm>
        </p:grpSpPr>
        <p:sp>
          <p:nvSpPr>
            <p:cNvPr id="142" name=""/>
            <p:cNvSpPr/>
            <p:nvPr/>
          </p:nvSpPr>
          <p:spPr>
            <a:xfrm>
              <a:off x="5213520" y="5272200"/>
              <a:ext cx="838080" cy="8380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85760" y="5272200"/>
              <a:ext cx="465480" cy="838080"/>
            </a:xfrm>
            <a:custGeom>
              <a:avLst/>
              <a:gdLst/>
              <a:ahLst/>
              <a:rect l="l" t="t" r="r" b="b"/>
              <a:pathLst>
                <a:path w="400" h="672">
                  <a:moveTo>
                    <a:pt x="64" y="0"/>
                  </a:moveTo>
                  <a:cubicBezTo>
                    <a:pt x="88" y="16"/>
                    <a:pt x="112" y="32"/>
                    <a:pt x="112" y="48"/>
                  </a:cubicBezTo>
                  <a:cubicBezTo>
                    <a:pt x="112" y="64"/>
                    <a:pt x="64" y="72"/>
                    <a:pt x="64" y="96"/>
                  </a:cubicBezTo>
                  <a:cubicBezTo>
                    <a:pt x="64" y="120"/>
                    <a:pt x="112" y="168"/>
                    <a:pt x="112" y="192"/>
                  </a:cubicBezTo>
                  <a:cubicBezTo>
                    <a:pt x="112" y="216"/>
                    <a:pt x="56" y="224"/>
                    <a:pt x="64" y="240"/>
                  </a:cubicBezTo>
                  <a:cubicBezTo>
                    <a:pt x="72" y="256"/>
                    <a:pt x="168" y="264"/>
                    <a:pt x="160" y="288"/>
                  </a:cubicBezTo>
                  <a:cubicBezTo>
                    <a:pt x="152" y="312"/>
                    <a:pt x="32" y="352"/>
                    <a:pt x="16" y="384"/>
                  </a:cubicBezTo>
                  <a:cubicBezTo>
                    <a:pt x="0" y="416"/>
                    <a:pt x="0" y="432"/>
                    <a:pt x="64" y="480"/>
                  </a:cubicBezTo>
                  <a:cubicBezTo>
                    <a:pt x="128" y="528"/>
                    <a:pt x="264" y="600"/>
                    <a:pt x="400" y="67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6365880" y="5268960"/>
            <a:ext cx="83808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362640" y="5506920"/>
            <a:ext cx="833400" cy="341280"/>
          </a:xfrm>
          <a:custGeom>
            <a:avLst/>
            <a:gdLst/>
            <a:ahLst/>
            <a:rect l="l" t="t" r="r" b="b"/>
            <a:pathLst>
              <a:path w="525" h="215">
                <a:moveTo>
                  <a:pt x="0" y="104"/>
                </a:moveTo>
                <a:cubicBezTo>
                  <a:pt x="43" y="159"/>
                  <a:pt x="86" y="215"/>
                  <a:pt x="147" y="200"/>
                </a:cubicBezTo>
                <a:cubicBezTo>
                  <a:pt x="208" y="185"/>
                  <a:pt x="303" y="28"/>
                  <a:pt x="366" y="14"/>
                </a:cubicBezTo>
                <a:cubicBezTo>
                  <a:pt x="429" y="0"/>
                  <a:pt x="477" y="58"/>
                  <a:pt x="525" y="116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a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Tahoma"/>
              </a:rPr>
              <a:t> </a:t>
            </a:r>
            <a:r>
              <a:rPr b="1" i="1" lang="en-US" sz="2800" spc="-1" strike="noStrike">
                <a:solidFill>
                  <a:srgbClr val="800080"/>
                </a:solidFill>
                <a:latin typeface="Tahoma"/>
              </a:rPr>
              <a:t>Particle production</a:t>
            </a: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roton beam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Pencil li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fr-FR" sz="2800" spc="-1" strike="noStrike">
                <a:solidFill>
                  <a:srgbClr val="006666"/>
                </a:solidFill>
                <a:latin typeface="Tahoma"/>
              </a:rPr>
              <a:t>2.2GeV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fr-FR" sz="2800" spc="-1" strike="noStrike">
                <a:solidFill>
                  <a:srgbClr val="ff0000"/>
                </a:solidFill>
                <a:latin typeface="Tahoma"/>
              </a:rPr>
              <a:t>3.5GeV, 4.5GeV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, 6.5GeV and 8Ge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fr-FR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protons on targ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Target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30cm long cylinder,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15mm in Liquid mercur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FLUKA 2002.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Normalized to a power of 4MW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a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800080"/>
                </a:solidFill>
                <a:latin typeface="Tahoma"/>
              </a:rPr>
              <a:t> </a:t>
            </a:r>
            <a:r>
              <a:rPr b="1" i="1" lang="en-GB" sz="2800" spc="-1" strike="noStrike">
                <a:solidFill>
                  <a:srgbClr val="800080"/>
                </a:solidFill>
                <a:latin typeface="Tahoma"/>
              </a:rPr>
              <a:t>Kaon production</a:t>
            </a: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328680" y="4572000"/>
            <a:ext cx="56912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500 000 protons,  E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&lt; 5Ge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6666"/>
                </a:solidFill>
                <a:latin typeface="Tahoma"/>
              </a:rPr>
              <a:t>at 2.2GeV 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6666"/>
                </a:solidFill>
                <a:latin typeface="Tahoma"/>
              </a:rPr>
              <a:t>0.26 </a:t>
            </a:r>
            <a:r>
              <a:rPr b="0" lang="fr-FR" sz="2400" spc="-1" strike="noStrike">
                <a:solidFill>
                  <a:srgbClr val="006666"/>
                </a:solidFill>
                <a:latin typeface="Symbol"/>
                <a:ea typeface="Symbol"/>
              </a:rPr>
              <a:t></a:t>
            </a:r>
            <a:r>
              <a:rPr b="0" lang="fr-FR" sz="2400" spc="-1" strike="noStrike" baseline="30000">
                <a:solidFill>
                  <a:srgbClr val="006666"/>
                </a:solidFill>
                <a:latin typeface="Tahoma"/>
              </a:rPr>
              <a:t>+</a:t>
            </a:r>
            <a:r>
              <a:rPr b="0" lang="fr-FR" sz="2400" spc="-1" strike="noStrike">
                <a:solidFill>
                  <a:srgbClr val="006666"/>
                </a:solidFill>
                <a:latin typeface="Tahoma"/>
              </a:rPr>
              <a:t>/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6666"/>
                </a:solidFill>
                <a:latin typeface="Tahoma"/>
              </a:rPr>
              <a:t>0.8 10</a:t>
            </a:r>
            <a:r>
              <a:rPr b="0" lang="fr-FR" sz="2400" spc="-1" strike="noStrike" baseline="30000">
                <a:solidFill>
                  <a:srgbClr val="006666"/>
                </a:solidFill>
                <a:latin typeface="Tahoma"/>
              </a:rPr>
              <a:t>-3</a:t>
            </a:r>
            <a:r>
              <a:rPr b="0" lang="fr-FR" sz="2400" spc="-1" strike="noStrike">
                <a:solidFill>
                  <a:srgbClr val="006666"/>
                </a:solidFill>
                <a:latin typeface="Tahoma"/>
              </a:rPr>
              <a:t> K</a:t>
            </a:r>
            <a:r>
              <a:rPr b="0" lang="fr-FR" sz="2400" spc="-1" strike="noStrike" baseline="30000">
                <a:solidFill>
                  <a:srgbClr val="006666"/>
                </a:solidFill>
                <a:latin typeface="Tahoma"/>
              </a:rPr>
              <a:t>+</a:t>
            </a:r>
            <a:r>
              <a:rPr b="0" lang="fr-FR" sz="2400" spc="-1" strike="noStrike">
                <a:solidFill>
                  <a:srgbClr val="006666"/>
                </a:solidFill>
                <a:latin typeface="Tahoma"/>
              </a:rPr>
              <a:t>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80400" y="914400"/>
            <a:ext cx="30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e BENE meeting 11/09/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349800" y="4965840"/>
            <a:ext cx="3200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99"/>
                </a:solidFill>
                <a:latin typeface="Tahoma"/>
              </a:rPr>
              <a:t>at 3.5GeV 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Tahoma"/>
              </a:rPr>
              <a:t>0.29 </a:t>
            </a:r>
            <a:r>
              <a:rPr b="0" lang="fr-FR" sz="2400" spc="-1" strike="noStrike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0" lang="fr-FR" sz="2400" spc="-1" strike="noStrike" baseline="30000">
                <a:solidFill>
                  <a:srgbClr val="000099"/>
                </a:solidFill>
                <a:latin typeface="Tahoma"/>
              </a:rPr>
              <a:t>+</a:t>
            </a:r>
            <a:r>
              <a:rPr b="0" lang="fr-FR" sz="2400" spc="-1" strike="noStrike">
                <a:solidFill>
                  <a:srgbClr val="000099"/>
                </a:solidFill>
                <a:latin typeface="Tahoma"/>
              </a:rPr>
              <a:t>/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Tahoma"/>
              </a:rPr>
              <a:t>2.8 10</a:t>
            </a:r>
            <a:r>
              <a:rPr b="0" lang="fr-FR" sz="2400" spc="-1" strike="noStrike" baseline="30000">
                <a:solidFill>
                  <a:srgbClr val="000099"/>
                </a:solidFill>
                <a:latin typeface="Tahoma"/>
              </a:rPr>
              <a:t>-3</a:t>
            </a:r>
            <a:r>
              <a:rPr b="0" lang="fr-FR" sz="2400" spc="-1" strike="noStrike">
                <a:solidFill>
                  <a:srgbClr val="000099"/>
                </a:solidFill>
                <a:latin typeface="Tahoma"/>
              </a:rPr>
              <a:t> K</a:t>
            </a:r>
            <a:r>
              <a:rPr b="0" lang="fr-FR" sz="2400" spc="-1" strike="noStrike" baseline="30000">
                <a:solidFill>
                  <a:srgbClr val="000099"/>
                </a:solidFill>
                <a:latin typeface="Tahoma"/>
              </a:rPr>
              <a:t>+</a:t>
            </a:r>
            <a:r>
              <a:rPr b="0" lang="fr-FR" sz="2400" spc="-1" strike="noStrike">
                <a:solidFill>
                  <a:srgbClr val="000099"/>
                </a:solidFill>
                <a:latin typeface="Tahoma"/>
              </a:rPr>
              <a:t>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KaonProd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420840" y="1263600"/>
            <a:ext cx="8404200" cy="3322800"/>
          </a:xfrm>
          <a:prstGeom prst="rect">
            <a:avLst/>
          </a:prstGeom>
          <a:ln w="38160">
            <a:solidFill>
              <a:srgbClr val="80008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7719840" y="4398840"/>
            <a:ext cx="638280" cy="13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8000" y="2655720"/>
            <a:ext cx="26352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27160" y="1728720"/>
            <a:ext cx="801720" cy="107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11880" y="1728720"/>
            <a:ext cx="725400" cy="90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94160" y="4359240"/>
            <a:ext cx="701640" cy="15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494160" y="4259520"/>
            <a:ext cx="819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en-GB" sz="1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(GeV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80240" y="4273920"/>
            <a:ext cx="819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en-GB" sz="1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(GeV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035840" y="1827720"/>
            <a:ext cx="4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59120" y="2437560"/>
            <a:ext cx="36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ahoma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384720" y="189288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742920" y="3674160"/>
            <a:ext cx="38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623760" y="287100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134040" y="4954680"/>
            <a:ext cx="28242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800080"/>
                </a:solidFill>
                <a:latin typeface="Tahoma"/>
              </a:rPr>
              <a:t>at 4.5GeV 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0080"/>
                </a:solidFill>
                <a:latin typeface="Tahoma"/>
              </a:rPr>
              <a:t>0.32 </a:t>
            </a:r>
            <a:r>
              <a:rPr b="0" lang="fr-FR" sz="2400" spc="-1" strike="noStrike">
                <a:solidFill>
                  <a:srgbClr val="800080"/>
                </a:solidFill>
                <a:latin typeface="Symbol"/>
                <a:ea typeface="Symbol"/>
              </a:rPr>
              <a:t></a:t>
            </a:r>
            <a:r>
              <a:rPr b="0" lang="fr-FR" sz="2400" spc="-1" strike="noStrike" baseline="30000">
                <a:solidFill>
                  <a:srgbClr val="800080"/>
                </a:solidFill>
                <a:latin typeface="Tahoma"/>
              </a:rPr>
              <a:t>+</a:t>
            </a:r>
            <a:r>
              <a:rPr b="0" lang="fr-FR" sz="2400" spc="-1" strike="noStrike">
                <a:solidFill>
                  <a:srgbClr val="800080"/>
                </a:solidFill>
                <a:latin typeface="Tahoma"/>
              </a:rPr>
              <a:t>/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0080"/>
                </a:solidFill>
                <a:latin typeface="Tahoma"/>
              </a:rPr>
              <a:t>5.2 10</a:t>
            </a:r>
            <a:r>
              <a:rPr b="0" lang="fr-FR" sz="2400" spc="-1" strike="noStrike" baseline="30000">
                <a:solidFill>
                  <a:srgbClr val="800080"/>
                </a:solidFill>
                <a:latin typeface="Tahoma"/>
              </a:rPr>
              <a:t>-3</a:t>
            </a:r>
            <a:r>
              <a:rPr b="0" lang="fr-FR" sz="2400" spc="-1" strike="noStrike">
                <a:solidFill>
                  <a:srgbClr val="800080"/>
                </a:solidFill>
                <a:latin typeface="Tahoma"/>
              </a:rPr>
              <a:t> K</a:t>
            </a:r>
            <a:r>
              <a:rPr b="0" lang="fr-FR" sz="2400" spc="-1" strike="noStrike" baseline="30000">
                <a:solidFill>
                  <a:srgbClr val="800080"/>
                </a:solidFill>
                <a:latin typeface="Tahoma"/>
              </a:rPr>
              <a:t>+</a:t>
            </a:r>
            <a:r>
              <a:rPr b="0" lang="fr-FR" sz="2400" spc="-1" strike="noStrike">
                <a:solidFill>
                  <a:srgbClr val="800080"/>
                </a:solidFill>
                <a:latin typeface="Tahoma"/>
              </a:rPr>
              <a:t>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30640" y="5076720"/>
            <a:ext cx="88920" cy="1236600"/>
          </a:xfrm>
          <a:prstGeom prst="rect">
            <a:avLst/>
          </a:prstGeom>
          <a:gradFill rotWithShape="0">
            <a:gsLst>
              <a:gs pos="0">
                <a:srgbClr val="f7ead5"/>
              </a:gs>
              <a:gs pos="50000">
                <a:srgbClr val="800080"/>
              </a:gs>
              <a:gs pos="100000">
                <a:srgbClr val="f7ea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999040" y="5067360"/>
            <a:ext cx="88920" cy="1236600"/>
          </a:xfrm>
          <a:prstGeom prst="rect">
            <a:avLst/>
          </a:prstGeom>
          <a:gradFill rotWithShape="0">
            <a:gsLst>
              <a:gs pos="0">
                <a:srgbClr val="f7ead5"/>
              </a:gs>
              <a:gs pos="50000">
                <a:srgbClr val="800080"/>
              </a:gs>
              <a:gs pos="100000">
                <a:srgbClr val="f7ea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15920" y="3639960"/>
            <a:ext cx="1917720" cy="474840"/>
          </a:xfrm>
          <a:custGeom>
            <a:avLst/>
            <a:gdLst/>
            <a:ahLst/>
            <a:rect l="l" t="t" r="r" b="b"/>
            <a:pathLst>
              <a:path w="1208" h="299">
                <a:moveTo>
                  <a:pt x="0" y="299"/>
                </a:moveTo>
                <a:cubicBezTo>
                  <a:pt x="57" y="290"/>
                  <a:pt x="116" y="284"/>
                  <a:pt x="200" y="263"/>
                </a:cubicBezTo>
                <a:cubicBezTo>
                  <a:pt x="284" y="242"/>
                  <a:pt x="437" y="200"/>
                  <a:pt x="508" y="175"/>
                </a:cubicBezTo>
                <a:cubicBezTo>
                  <a:pt x="579" y="150"/>
                  <a:pt x="591" y="128"/>
                  <a:pt x="628" y="111"/>
                </a:cubicBezTo>
                <a:cubicBezTo>
                  <a:pt x="665" y="94"/>
                  <a:pt x="681" y="89"/>
                  <a:pt x="728" y="75"/>
                </a:cubicBezTo>
                <a:cubicBezTo>
                  <a:pt x="775" y="61"/>
                  <a:pt x="854" y="0"/>
                  <a:pt x="912" y="27"/>
                </a:cubicBezTo>
                <a:cubicBezTo>
                  <a:pt x="970" y="54"/>
                  <a:pt x="1027" y="199"/>
                  <a:pt x="1076" y="235"/>
                </a:cubicBezTo>
                <a:cubicBezTo>
                  <a:pt x="1125" y="271"/>
                  <a:pt x="1184" y="242"/>
                  <a:pt x="1208" y="243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901960" y="1731960"/>
            <a:ext cx="1219320" cy="2306520"/>
          </a:xfrm>
          <a:custGeom>
            <a:avLst/>
            <a:gdLst/>
            <a:ahLst/>
            <a:rect l="l" t="t" r="r" b="b"/>
            <a:pathLst>
              <a:path w="768" h="1453">
                <a:moveTo>
                  <a:pt x="0" y="1453"/>
                </a:moveTo>
                <a:cubicBezTo>
                  <a:pt x="66" y="1374"/>
                  <a:pt x="133" y="1295"/>
                  <a:pt x="192" y="1181"/>
                </a:cubicBezTo>
                <a:cubicBezTo>
                  <a:pt x="251" y="1067"/>
                  <a:pt x="288" y="945"/>
                  <a:pt x="356" y="769"/>
                </a:cubicBezTo>
                <a:cubicBezTo>
                  <a:pt x="424" y="593"/>
                  <a:pt x="531" y="250"/>
                  <a:pt x="600" y="125"/>
                </a:cubicBezTo>
                <a:cubicBezTo>
                  <a:pt x="669" y="0"/>
                  <a:pt x="718" y="8"/>
                  <a:pt x="768" y="17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22400" y="2317680"/>
            <a:ext cx="3098880" cy="1824120"/>
          </a:xfrm>
          <a:custGeom>
            <a:avLst/>
            <a:gdLst/>
            <a:ahLst/>
            <a:rect l="l" t="t" r="r" b="b"/>
            <a:pathLst>
              <a:path w="1952" h="1149">
                <a:moveTo>
                  <a:pt x="0" y="1140"/>
                </a:moveTo>
                <a:cubicBezTo>
                  <a:pt x="161" y="1128"/>
                  <a:pt x="323" y="1116"/>
                  <a:pt x="436" y="1092"/>
                </a:cubicBezTo>
                <a:cubicBezTo>
                  <a:pt x="549" y="1068"/>
                  <a:pt x="601" y="1026"/>
                  <a:pt x="676" y="996"/>
                </a:cubicBezTo>
                <a:cubicBezTo>
                  <a:pt x="751" y="966"/>
                  <a:pt x="821" y="896"/>
                  <a:pt x="888" y="912"/>
                </a:cubicBezTo>
                <a:cubicBezTo>
                  <a:pt x="955" y="928"/>
                  <a:pt x="1021" y="1065"/>
                  <a:pt x="1080" y="1092"/>
                </a:cubicBezTo>
                <a:cubicBezTo>
                  <a:pt x="1139" y="1119"/>
                  <a:pt x="1165" y="1149"/>
                  <a:pt x="1240" y="1072"/>
                </a:cubicBezTo>
                <a:cubicBezTo>
                  <a:pt x="1315" y="995"/>
                  <a:pt x="1458" y="756"/>
                  <a:pt x="1528" y="632"/>
                </a:cubicBezTo>
                <a:cubicBezTo>
                  <a:pt x="1598" y="508"/>
                  <a:pt x="1606" y="403"/>
                  <a:pt x="1660" y="328"/>
                </a:cubicBezTo>
                <a:cubicBezTo>
                  <a:pt x="1714" y="253"/>
                  <a:pt x="1813" y="233"/>
                  <a:pt x="1852" y="184"/>
                </a:cubicBezTo>
                <a:cubicBezTo>
                  <a:pt x="1891" y="135"/>
                  <a:pt x="1875" y="63"/>
                  <a:pt x="1892" y="32"/>
                </a:cubicBezTo>
                <a:cubicBezTo>
                  <a:pt x="1909" y="1"/>
                  <a:pt x="1930" y="0"/>
                  <a:pt x="1952" y="0"/>
                </a:cubicBez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15920" y="4044960"/>
            <a:ext cx="3117960" cy="201600"/>
          </a:xfrm>
          <a:custGeom>
            <a:avLst/>
            <a:gdLst/>
            <a:ahLst/>
            <a:rect l="l" t="t" r="r" b="b"/>
            <a:pathLst>
              <a:path w="1964" h="127">
                <a:moveTo>
                  <a:pt x="0" y="112"/>
                </a:moveTo>
                <a:cubicBezTo>
                  <a:pt x="462" y="119"/>
                  <a:pt x="925" y="127"/>
                  <a:pt x="1220" y="112"/>
                </a:cubicBezTo>
                <a:cubicBezTo>
                  <a:pt x="1515" y="97"/>
                  <a:pt x="1648" y="43"/>
                  <a:pt x="1772" y="24"/>
                </a:cubicBezTo>
                <a:cubicBezTo>
                  <a:pt x="1896" y="5"/>
                  <a:pt x="1930" y="2"/>
                  <a:pt x="1964" y="0"/>
                </a:cubicBezTo>
              </a:path>
            </a:pathLst>
          </a:custGeom>
          <a:noFill/>
          <a:ln w="190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219640" y="1739880"/>
            <a:ext cx="3124440" cy="1635120"/>
          </a:xfrm>
          <a:custGeom>
            <a:avLst/>
            <a:gdLst/>
            <a:ahLst/>
            <a:rect l="l" t="t" r="r" b="b"/>
            <a:pathLst>
              <a:path w="1968" h="1030">
                <a:moveTo>
                  <a:pt x="0" y="1016"/>
                </a:moveTo>
                <a:cubicBezTo>
                  <a:pt x="12" y="1023"/>
                  <a:pt x="25" y="1030"/>
                  <a:pt x="36" y="1016"/>
                </a:cubicBezTo>
                <a:cubicBezTo>
                  <a:pt x="47" y="1002"/>
                  <a:pt x="26" y="963"/>
                  <a:pt x="64" y="932"/>
                </a:cubicBezTo>
                <a:cubicBezTo>
                  <a:pt x="102" y="901"/>
                  <a:pt x="191" y="863"/>
                  <a:pt x="264" y="828"/>
                </a:cubicBezTo>
                <a:cubicBezTo>
                  <a:pt x="337" y="793"/>
                  <a:pt x="433" y="754"/>
                  <a:pt x="504" y="720"/>
                </a:cubicBezTo>
                <a:cubicBezTo>
                  <a:pt x="575" y="686"/>
                  <a:pt x="621" y="658"/>
                  <a:pt x="688" y="624"/>
                </a:cubicBezTo>
                <a:cubicBezTo>
                  <a:pt x="755" y="590"/>
                  <a:pt x="853" y="555"/>
                  <a:pt x="908" y="516"/>
                </a:cubicBezTo>
                <a:cubicBezTo>
                  <a:pt x="963" y="477"/>
                  <a:pt x="931" y="439"/>
                  <a:pt x="1016" y="392"/>
                </a:cubicBezTo>
                <a:cubicBezTo>
                  <a:pt x="1101" y="345"/>
                  <a:pt x="1319" y="277"/>
                  <a:pt x="1416" y="232"/>
                </a:cubicBezTo>
                <a:cubicBezTo>
                  <a:pt x="1513" y="187"/>
                  <a:pt x="1508" y="159"/>
                  <a:pt x="1600" y="120"/>
                </a:cubicBezTo>
                <a:cubicBezTo>
                  <a:pt x="1692" y="81"/>
                  <a:pt x="1830" y="40"/>
                  <a:pt x="1968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219640" y="2457360"/>
            <a:ext cx="3117960" cy="1130400"/>
          </a:xfrm>
          <a:custGeom>
            <a:avLst/>
            <a:gdLst/>
            <a:ahLst/>
            <a:rect l="l" t="t" r="r" b="b"/>
            <a:pathLst>
              <a:path w="1964" h="712">
                <a:moveTo>
                  <a:pt x="0" y="708"/>
                </a:moveTo>
                <a:cubicBezTo>
                  <a:pt x="12" y="710"/>
                  <a:pt x="24" y="712"/>
                  <a:pt x="40" y="692"/>
                </a:cubicBezTo>
                <a:cubicBezTo>
                  <a:pt x="56" y="672"/>
                  <a:pt x="40" y="627"/>
                  <a:pt x="96" y="588"/>
                </a:cubicBezTo>
                <a:cubicBezTo>
                  <a:pt x="152" y="549"/>
                  <a:pt x="280" y="505"/>
                  <a:pt x="376" y="456"/>
                </a:cubicBezTo>
                <a:cubicBezTo>
                  <a:pt x="472" y="407"/>
                  <a:pt x="592" y="337"/>
                  <a:pt x="672" y="296"/>
                </a:cubicBezTo>
                <a:cubicBezTo>
                  <a:pt x="752" y="255"/>
                  <a:pt x="808" y="223"/>
                  <a:pt x="856" y="208"/>
                </a:cubicBezTo>
                <a:cubicBezTo>
                  <a:pt x="904" y="193"/>
                  <a:pt x="924" y="197"/>
                  <a:pt x="960" y="208"/>
                </a:cubicBezTo>
                <a:cubicBezTo>
                  <a:pt x="996" y="219"/>
                  <a:pt x="1019" y="262"/>
                  <a:pt x="1072" y="272"/>
                </a:cubicBezTo>
                <a:cubicBezTo>
                  <a:pt x="1125" y="282"/>
                  <a:pt x="1215" y="279"/>
                  <a:pt x="1280" y="268"/>
                </a:cubicBezTo>
                <a:cubicBezTo>
                  <a:pt x="1345" y="257"/>
                  <a:pt x="1398" y="232"/>
                  <a:pt x="1460" y="208"/>
                </a:cubicBezTo>
                <a:cubicBezTo>
                  <a:pt x="1522" y="184"/>
                  <a:pt x="1568" y="159"/>
                  <a:pt x="1652" y="124"/>
                </a:cubicBezTo>
                <a:cubicBezTo>
                  <a:pt x="1736" y="89"/>
                  <a:pt x="1850" y="44"/>
                  <a:pt x="1964" y="0"/>
                </a:cubicBez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a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800080"/>
                </a:solidFill>
                <a:latin typeface="Tahoma"/>
              </a:rPr>
              <a:t> </a:t>
            </a:r>
            <a:r>
              <a:rPr b="1" i="1" lang="en-GB" sz="2800" spc="-1" strike="noStrike">
                <a:solidFill>
                  <a:srgbClr val="800080"/>
                </a:solidFill>
                <a:latin typeface="Tahoma"/>
              </a:rPr>
              <a:t>Pion production</a:t>
            </a: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631880" y="1249200"/>
            <a:ext cx="5867640" cy="3978360"/>
          </a:xfrm>
          <a:prstGeom prst="rect">
            <a:avLst/>
          </a:prstGeom>
          <a:ln w="38160">
            <a:solidFill>
              <a:srgbClr val="800080"/>
            </a:solidFill>
            <a:miter/>
          </a:ln>
        </p:spPr>
      </p:pic>
      <p:sp>
        <p:nvSpPr>
          <p:cNvPr id="176" name=""/>
          <p:cNvSpPr/>
          <p:nvPr/>
        </p:nvSpPr>
        <p:spPr>
          <a:xfrm>
            <a:off x="6259680" y="1217520"/>
            <a:ext cx="126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660066"/>
                </a:solidFill>
                <a:latin typeface="Tahoma"/>
              </a:rPr>
              <a:t>2 10</a:t>
            </a:r>
            <a:r>
              <a:rPr b="1" lang="fr-FR" sz="2000" spc="-1" strike="noStrike" baseline="30000">
                <a:solidFill>
                  <a:srgbClr val="660066"/>
                </a:solidFill>
                <a:latin typeface="Tahoma"/>
              </a:rPr>
              <a:t>5</a:t>
            </a:r>
            <a:r>
              <a:rPr b="1" lang="fr-FR" sz="2000" spc="-1" strike="noStrike">
                <a:solidFill>
                  <a:srgbClr val="660066"/>
                </a:solidFill>
                <a:latin typeface="Tahoma"/>
              </a:rPr>
              <a:t> p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854440" y="3111480"/>
            <a:ext cx="1512720" cy="1664640"/>
            <a:chOff x="2854440" y="3111480"/>
            <a:chExt cx="1512720" cy="1664640"/>
          </a:xfrm>
        </p:grpSpPr>
        <p:sp>
          <p:nvSpPr>
            <p:cNvPr id="178" name=""/>
            <p:cNvSpPr/>
            <p:nvPr/>
          </p:nvSpPr>
          <p:spPr>
            <a:xfrm flipV="1">
              <a:off x="2854440" y="3782880"/>
              <a:ext cx="0" cy="99324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4367160" y="3782880"/>
              <a:ext cx="0" cy="99324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203640" y="3111480"/>
              <a:ext cx="802440" cy="398880"/>
            </a:xfrm>
            <a:prstGeom prst="rect">
              <a:avLst/>
            </a:prstGeom>
            <a:noFill/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fr-FR" sz="2000" spc="-1" strike="noStrike">
                  <a:solidFill>
                    <a:srgbClr val="000000"/>
                  </a:solidFill>
                  <a:latin typeface="Tahoma"/>
                </a:rPr>
                <a:t>Fa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2854440" y="3564000"/>
              <a:ext cx="407520" cy="21888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959280" y="3564000"/>
              <a:ext cx="407520" cy="21888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4496040" y="3110040"/>
            <a:ext cx="487080" cy="1666080"/>
            <a:chOff x="4496040" y="3110040"/>
            <a:chExt cx="487080" cy="1666080"/>
          </a:xfrm>
        </p:grpSpPr>
        <p:grpSp>
          <p:nvGrpSpPr>
            <p:cNvPr id="184" name=""/>
            <p:cNvGrpSpPr/>
            <p:nvPr/>
          </p:nvGrpSpPr>
          <p:grpSpPr>
            <a:xfrm>
              <a:off x="4500720" y="3481200"/>
              <a:ext cx="466920" cy="1294920"/>
              <a:chOff x="4500720" y="3481200"/>
              <a:chExt cx="466920" cy="1294920"/>
            </a:xfrm>
          </p:grpSpPr>
          <p:sp>
            <p:nvSpPr>
              <p:cNvPr id="185" name=""/>
              <p:cNvSpPr/>
              <p:nvPr/>
            </p:nvSpPr>
            <p:spPr>
              <a:xfrm flipV="1">
                <a:off x="4500720" y="3481200"/>
                <a:ext cx="0" cy="1294920"/>
              </a:xfrm>
              <a:prstGeom prst="line">
                <a:avLst/>
              </a:prstGeom>
              <a:ln w="38160">
                <a:solidFill>
                  <a:srgbClr val="00666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V="1">
                <a:off x="4967640" y="3481200"/>
                <a:ext cx="0" cy="1294920"/>
              </a:xfrm>
              <a:prstGeom prst="line">
                <a:avLst/>
              </a:prstGeom>
              <a:ln w="38160">
                <a:solidFill>
                  <a:srgbClr val="00666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4496040" y="3110040"/>
              <a:ext cx="487080" cy="398880"/>
            </a:xfrm>
            <a:prstGeom prst="rect">
              <a:avLst/>
            </a:prstGeom>
            <a:noFill/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ahoma"/>
                </a:rPr>
                <a:t>S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1618200" y="5415120"/>
            <a:ext cx="586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ion production at the exit of the 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arison MARS FLUKA simul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a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corne600hr" descr=""/>
          <p:cNvPicPr/>
          <p:nvPr/>
        </p:nvPicPr>
        <p:blipFill>
          <a:blip r:embed="rId1"/>
          <a:stretch/>
        </p:blipFill>
        <p:spPr>
          <a:xfrm>
            <a:off x="457200" y="2362320"/>
            <a:ext cx="3886200" cy="3886200"/>
          </a:xfrm>
          <a:prstGeom prst="rect">
            <a:avLst/>
          </a:prstGeom>
          <a:ln w="28440">
            <a:solidFill>
              <a:srgbClr val="660066"/>
            </a:solidFill>
            <a:miter/>
          </a:ln>
        </p:spPr>
      </p:pic>
      <p:sp>
        <p:nvSpPr>
          <p:cNvPr id="190" name=""/>
          <p:cNvSpPr/>
          <p:nvPr/>
        </p:nvSpPr>
        <p:spPr>
          <a:xfrm>
            <a:off x="457200" y="2514600"/>
            <a:ext cx="380880" cy="350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Tahoma"/>
              </a:rPr>
              <a:t> </a:t>
            </a:r>
            <a:r>
              <a:rPr b="1" i="1" lang="en-US" sz="2800" spc="-1" strike="noStrike">
                <a:solidFill>
                  <a:srgbClr val="800080"/>
                </a:solidFill>
                <a:latin typeface="Tahoma"/>
              </a:rPr>
              <a:t>Horn simulation</a:t>
            </a: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awing from the horn built at CE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timized for Super Beam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3" name="corne3D" descr=""/>
          <p:cNvPicPr/>
          <p:nvPr/>
        </p:nvPicPr>
        <p:blipFill>
          <a:blip r:embed="rId2"/>
          <a:stretch/>
        </p:blipFill>
        <p:spPr>
          <a:xfrm>
            <a:off x="4495680" y="3103560"/>
            <a:ext cx="4572000" cy="28526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838080" y="2743200"/>
            <a:ext cx="3124440" cy="312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rot="16190400">
            <a:off x="150120" y="2670840"/>
            <a:ext cx="9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r(c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73400" y="480060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400" y="388620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2120" y="5867280"/>
            <a:ext cx="3276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435120" y="579132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z(c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82880" y="586728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149560" y="586728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140280" y="586728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363200" y="5943600"/>
            <a:ext cx="218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0066"/>
                </a:solidFill>
                <a:latin typeface="Tahoma"/>
              </a:rPr>
              <a:t>NuFact-Note 13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92280" y="5308560"/>
            <a:ext cx="285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ing Geant 3.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715000" y="1766880"/>
            <a:ext cx="2849400" cy="19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~ 260M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600MeV/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~ 300M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800MeV/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a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Tahoma"/>
              </a:rPr>
              <a:t> </a:t>
            </a:r>
            <a:r>
              <a:rPr b="1" i="1" lang="en-US" sz="2800" spc="-1" strike="noStrike">
                <a:solidFill>
                  <a:srgbClr val="800080"/>
                </a:solidFill>
                <a:latin typeface="Tahoma"/>
              </a:rPr>
              <a:t>Horn design parameter</a:t>
            </a: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43920" y="1054080"/>
            <a:ext cx="4890240" cy="2361960"/>
            <a:chOff x="3643920" y="1054080"/>
            <a:chExt cx="4890240" cy="2361960"/>
          </a:xfrm>
        </p:grpSpPr>
        <p:pic>
          <p:nvPicPr>
            <p:cNvPr id="208" name="corne350" descr=""/>
            <p:cNvPicPr/>
            <p:nvPr/>
          </p:nvPicPr>
          <p:blipFill>
            <a:blip r:embed="rId1"/>
            <a:stretch/>
          </p:blipFill>
          <p:spPr>
            <a:xfrm>
              <a:off x="3657600" y="1128600"/>
              <a:ext cx="4876560" cy="2284560"/>
            </a:xfrm>
            <a:prstGeom prst="rect">
              <a:avLst/>
            </a:prstGeom>
            <a:ln w="28440">
              <a:solidFill>
                <a:srgbClr val="660066"/>
              </a:solidFill>
              <a:miter/>
            </a:ln>
          </p:spPr>
        </p:pic>
        <p:sp>
          <p:nvSpPr>
            <p:cNvPr id="209" name=""/>
            <p:cNvSpPr/>
            <p:nvPr/>
          </p:nvSpPr>
          <p:spPr>
            <a:xfrm>
              <a:off x="4038480" y="3195360"/>
              <a:ext cx="3809880" cy="22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962160" y="3047760"/>
              <a:ext cx="236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700520" y="3047760"/>
              <a:ext cx="78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140 c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033800" y="3289320"/>
              <a:ext cx="388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553080" y="3047760"/>
              <a:ext cx="78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220 c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924680" y="2014560"/>
              <a:ext cx="609480" cy="88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001000" y="1276200"/>
              <a:ext cx="0" cy="154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695000" y="1719000"/>
              <a:ext cx="6865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80 c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43920" y="1054080"/>
              <a:ext cx="1543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66"/>
                  </a:solidFill>
                  <a:latin typeface="Tahoma"/>
                </a:rPr>
                <a:t>E</a:t>
              </a:r>
              <a:r>
                <a:rPr b="1" lang="en-US" sz="2000" spc="-1" strike="noStrike" baseline="-25000">
                  <a:solidFill>
                    <a:srgbClr val="660066"/>
                  </a:solidFill>
                  <a:latin typeface="Symbol"/>
                  <a:ea typeface="Symbol"/>
                </a:rPr>
                <a:t></a:t>
              </a:r>
              <a:r>
                <a:rPr b="1" lang="en-US" sz="2000" spc="-1" strike="noStrike">
                  <a:solidFill>
                    <a:srgbClr val="660066"/>
                  </a:solidFill>
                  <a:latin typeface="Tahoma"/>
                </a:rPr>
                <a:t>~300Me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18" name=""/>
          <p:cNvGraphicFramePr/>
          <p:nvPr/>
        </p:nvGraphicFramePr>
        <p:xfrm>
          <a:off x="2052720" y="3639960"/>
          <a:ext cx="2438280" cy="2679480"/>
        </p:xfrm>
        <a:graphic>
          <a:graphicData uri="http://schemas.openxmlformats.org/drawingml/2006/table">
            <a:tbl>
              <a:tblPr/>
              <a:tblGrid>
                <a:gridCol w="1487160"/>
                <a:gridCol w="951120"/>
              </a:tblGrid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ner radi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4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ck leng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uter radi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.5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total leng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20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FLEC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uter radi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total leng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90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6548400" y="3673440"/>
          <a:ext cx="2438280" cy="2679840"/>
        </p:xfrm>
        <a:graphic>
          <a:graphicData uri="http://schemas.openxmlformats.org/drawingml/2006/table">
            <a:tbl>
              <a:tblPr/>
              <a:tblGrid>
                <a:gridCol w="1487520"/>
                <a:gridCol w="950760"/>
              </a:tblGrid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ner radi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4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ck leng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uter radi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.5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total leng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40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FLEC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uter radi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total leng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20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0" name=""/>
          <p:cNvSpPr/>
          <p:nvPr/>
        </p:nvSpPr>
        <p:spPr>
          <a:xfrm>
            <a:off x="123840" y="4454640"/>
            <a:ext cx="17733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~260M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~600M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646520" y="4422600"/>
            <a:ext cx="17733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~300M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~800M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10240" y="1752480"/>
            <a:ext cx="3441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uctor thickness : 3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rn : 300kAm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flector : 600kAm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a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Tahoma"/>
              </a:rPr>
              <a:t> </a:t>
            </a:r>
            <a:r>
              <a:rPr b="1" i="1" lang="en-US" sz="2800" spc="-1" strike="noStrike">
                <a:solidFill>
                  <a:srgbClr val="800080"/>
                </a:solidFill>
                <a:latin typeface="Tahoma"/>
              </a:rPr>
              <a:t>Decay Tunnel Parameters</a:t>
            </a: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83960" y="1143000"/>
            <a:ext cx="4235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dify p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=10m, 20m, 40m and 60m have been tes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10m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4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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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+ 50% to 70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ahoma"/>
              </a:rPr>
              <a:t>e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ahoma"/>
              </a:rPr>
              <a:t>e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+ 50% to 100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40m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6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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+ 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ahoma"/>
              </a:rPr>
              <a:t>e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ahoma"/>
              </a:rPr>
              <a:t>e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+ 20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80"/>
                </a:solidFill>
                <a:latin typeface="Tahoma"/>
              </a:rPr>
              <a:t>40m seems b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84600" y="1155600"/>
            <a:ext cx="4346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adi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dify accep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=1m, 1.5m and 2m have been Te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1m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2m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(L=40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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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+50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ahoma"/>
              </a:rPr>
              <a:t>e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ahoma"/>
              </a:rPr>
              <a:t>e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+50% to 70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80"/>
                </a:solidFill>
                <a:latin typeface="Tahoma"/>
              </a:rPr>
              <a:t>2m seems b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"/>
          <p:cNvSpPr/>
          <p:nvPr/>
        </p:nvSpPr>
        <p:spPr>
          <a:xfrm>
            <a:off x="4797360" y="4925880"/>
            <a:ext cx="3311640" cy="1657800"/>
          </a:xfrm>
          <a:prstGeom prst="rect">
            <a:avLst/>
          </a:prstGeom>
          <a:noFill/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66"/>
                </a:solidFill>
                <a:latin typeface="Tahoma"/>
              </a:rPr>
              <a:t>This results have been checked on sensitivity to </a:t>
            </a:r>
            <a:r>
              <a:rPr b="0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</a:t>
            </a:r>
            <a:r>
              <a:rPr b="0" lang="en-GB" sz="2400" spc="-1" strike="noStrike" baseline="-25000">
                <a:solidFill>
                  <a:srgbClr val="660066"/>
                </a:solidFill>
                <a:latin typeface="Tahoma"/>
              </a:rPr>
              <a:t>13</a:t>
            </a:r>
            <a:r>
              <a:rPr b="0" lang="en-GB" sz="2400" spc="-1" strike="noStrike">
                <a:solidFill>
                  <a:srgbClr val="660066"/>
                </a:solidFill>
                <a:latin typeface="Tahoma"/>
              </a:rPr>
              <a:t> and </a:t>
            </a:r>
            <a:r>
              <a:rPr b="0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</a:t>
            </a:r>
            <a:r>
              <a:rPr b="0" lang="en-GB" sz="2400" spc="-1" strike="noStrike" baseline="-25000">
                <a:solidFill>
                  <a:srgbClr val="660066"/>
                </a:solidFill>
                <a:latin typeface="Tahoma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803240" y="3432240"/>
            <a:ext cx="163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816200" y="3825720"/>
            <a:ext cx="1634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817640" y="4611600"/>
            <a:ext cx="1634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830240" y="4973760"/>
            <a:ext cx="163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215040" y="3435480"/>
            <a:ext cx="214200" cy="355320"/>
            <a:chOff x="6215040" y="3435480"/>
            <a:chExt cx="214200" cy="355320"/>
          </a:xfrm>
        </p:grpSpPr>
        <p:sp>
          <p:nvSpPr>
            <p:cNvPr id="232" name=""/>
            <p:cNvSpPr/>
            <p:nvPr/>
          </p:nvSpPr>
          <p:spPr>
            <a:xfrm>
              <a:off x="6215040" y="3435480"/>
              <a:ext cx="163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265800" y="3790800"/>
              <a:ext cx="163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a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Tahoma"/>
              </a:rPr>
              <a:t> </a:t>
            </a:r>
            <a:r>
              <a:rPr b="1" i="1" lang="en-US" sz="2800" spc="-1" strike="noStrike">
                <a:solidFill>
                  <a:srgbClr val="800080"/>
                </a:solidFill>
                <a:latin typeface="Tahoma"/>
              </a:rPr>
              <a:t>Flux calculation</a:t>
            </a: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ow energy </a:t>
            </a:r>
            <a:r>
              <a:rPr b="0" lang="en-GB" sz="2800" spc="-1" strike="noStrike">
                <a:solidFill>
                  <a:srgbClr val="006666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Small boost </a:t>
            </a:r>
            <a:r>
              <a:rPr b="0" lang="en-GB" sz="2800" spc="-1" strike="noStrike">
                <a:solidFill>
                  <a:srgbClr val="006666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006666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ow focu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eed a high number of events (~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Arial"/>
              </a:rPr>
              <a:t>10</a:t>
            </a:r>
            <a:r>
              <a:rPr b="0" lang="fr-FR" sz="2800" spc="-1" strike="noStrike" baseline="30000">
                <a:solidFill>
                  <a:srgbClr val="000000"/>
                </a:solidFill>
                <a:latin typeface="Tahoma"/>
                <a:ea typeface="Arial"/>
              </a:rPr>
              <a:t>15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Arial"/>
              </a:rPr>
              <a:t> evts!!!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Use probability (M. Donega thesis approac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ach time a pion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uon, or a kaon is decayed by Geant,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ompute the probability for the neutrino to reach the detec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his</a:t>
            </a:r>
            <a:r>
              <a:rPr b="0" lang="en-US" sz="2400" spc="-1" strike="noStrike">
                <a:solidFill>
                  <a:srgbClr val="00808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ability as a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weigh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fill an histogram with the neutrino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are few kaons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rfore a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kao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produced in the target is duplicated many times:</a:t>
            </a:r>
            <a:r>
              <a:rPr b="0" lang="en-GB" sz="2400" spc="-1" strike="noStrike">
                <a:solidFill>
                  <a:srgbClr val="00808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8080"/>
                </a:solidFill>
                <a:latin typeface="Monotype Corsiva"/>
              </a:rPr>
              <a:t>~100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neutrino spectru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"/>
          <p:cNvSpPr/>
          <p:nvPr/>
        </p:nvSpPr>
        <p:spPr>
          <a:xfrm rot="21579000">
            <a:off x="183600" y="4682880"/>
            <a:ext cx="730440" cy="674280"/>
          </a:xfrm>
          <a:prstGeom prst="rightArrow">
            <a:avLst>
              <a:gd name="adj1" fmla="val 50000"/>
              <a:gd name="adj2" fmla="val 27082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8T19:04:34Z</dcterms:created>
  <dc:creator>cazes</dc:creator>
  <dc:description/>
  <dc:language>en-US</dc:language>
  <cp:lastModifiedBy>CAZES</cp:lastModifiedBy>
  <dcterms:modified xsi:type="dcterms:W3CDTF">2004-11-02T22:08:08Z</dcterms:modified>
  <cp:revision>27</cp:revision>
  <dc:subject/>
  <dc:title>SPL-Fréjus optimisation. </dc:title>
</cp:coreProperties>
</file>